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6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9.wmf" ContentType="image/x-wmf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8B267-79F7-4F96-999F-2ACDB2B8B2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72AFC-9655-477C-8FCD-BDC63A0F882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F89E9-1F55-42DE-8272-B9AC7722350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386FF-02ED-48C7-81D5-E5434EA042D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97A9D-BE52-491B-9147-802EB3BC019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8C550-B077-4EFC-9F5F-454044E0F37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1656A-294D-422A-AE63-CC6EA60967D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C7A9-1FBF-481A-AEE3-38E34604B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C64F-4434-4F02-9FD7-160467A24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AA80FA-49B0-48DE-8512-7D475B63F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3E1D5F-20DD-41FA-83A9-40CD4BB73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819497-F65A-4BE4-B083-115173406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CC3030-EEDC-4F92-A1BC-841611BC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594758-7138-445B-B2AE-57FDC745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C4BE90-48A5-473D-B043-F61F68A4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A5F8D1-D670-4BEF-9C2C-A1A926E2E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456D76-FA6C-415C-B0BB-159E82DF6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C2AC4F-CBB5-4AE5-91EC-89AA419E2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579FFD-BF9C-4166-B1E2-43EFE0B50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D223-8D23-4598-BEF1-69E100788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FE1398-137D-4D1C-A36D-7E1874E54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EF88D0-9610-4137-A220-1637CC32B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8C3650-9F94-47DC-8412-3A8275E07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E28FFE-FDA1-478B-89A3-3CA1771F1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031948-BE30-4CC3-8377-983C9AE66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092A9A-DE78-4EAB-AF3F-43337B68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C5DEAD-F83A-4526-8E47-C66289C8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86EE17-AE33-40CB-BAE9-0A1E8E1E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7E0432-2E9B-477A-87DC-3AD5B669D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EBF2F8-AED6-415B-82A5-358F06366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2A2A-8675-49FF-BE71-4445F6B8D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11BB01-A91F-4B62-8E40-F44CFC6D2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7486D0-447C-4175-A832-468A09C14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22742A-B4F1-4D20-9C2E-0A318157C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10C5F9-6938-40C6-AB4B-371DB46C0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A0183E-8BD9-4605-8266-8C19D4DD8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4DD182-F4C5-4729-BD89-913621170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830CF1-C8EA-43C5-816F-E9085BA22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21E605-294F-4AA1-AFAE-61F645C0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09236A-AEBE-44D4-8530-FEE51560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1F1D48-850A-433F-A297-C3BC8BEC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AF3A1-8D0F-4F0B-B8D1-AE954B9EE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C8F1E0-9752-406A-8892-5F159626F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A15227-8FBB-48A0-A44C-4BC9366B0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CA8D17-69AA-47C7-89D5-80516F04E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873AD2-50D2-4890-A983-2FBB52192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58F25E-657E-4F3D-831A-B1FF8F450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8D0941-E3C8-40ED-9CC9-3A1446F2C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AC9A38-CD6E-458F-86C4-B7EB3C248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CB49D9-D87C-4D3E-A555-E99DB9EFE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0C239D-A026-4CB3-864F-338A14DF9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AB5144-B8D8-4D26-B956-8376BA22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67390-6391-45CE-A3F2-DF91A609F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DE504D-5928-4933-8063-3DD4D99E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668499-8F0B-433A-A22D-13F37863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1999D1-35E6-4E3C-8F20-257B5EA77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4236D0-E30F-4DB9-BE2A-695E94781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84A5BC-A7BA-41E5-84E7-C02B15094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B1B48-905F-4579-8785-6DD66789D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EC21A-D348-4413-A282-1084491F2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1FAC0-0ACC-483A-A9DC-436EDB864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090C4-AD98-4D55-8881-6E14DCBD7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29419-5978-476E-A657-0BEBDD24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FE07-EAC9-4E23-8140-B66271C41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83B6C-E9E9-4790-A747-24E0CDA6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07D16-AFAE-4B89-B16B-AAF889A3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77578-A95D-4014-B3DD-F799A73AF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A61F3-30BF-496E-9573-B4C63F20F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86A47-DBA1-4A48-90BB-40C61D853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7F0D8-CBB8-4B53-9ADC-A1DE3D816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37D45-EEAB-42CA-AC7A-D7BBBC8FB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41801-C68A-45C3-B71F-D5C486470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9031C-EB6E-4EB5-A9D7-F57D09E94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7B3FF-8ADA-4B6E-B52C-1DB4F779A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34EA-C237-43BE-9E4F-0BAA5297E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A4A09-1278-4A57-AF7F-CB331B219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121EB-1AB2-4B8F-B845-92806A37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F241A-B484-480F-B166-AB01C42B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59E6D-4524-4F0F-91FE-5F7EBE07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4CD56-BE8E-44C4-B24B-7402CBC73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C42D5-4918-404A-AACE-4EF9562E6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11BB7-1235-4905-9177-78C9C84C0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137A1-8CEF-4BDA-9AA1-BCE4AC0AA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67700-C289-4383-9EF2-3EFDAF58B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F6BF4-0F73-4423-B8EF-F1E7CFA3E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ED41-8E06-4735-9E4F-B8BB99559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BE41C-57A8-48D1-B32A-638520D2B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05F94-4BE5-4E5C-BCCC-ED5AC38DC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2CCD7-421E-427C-9B09-18B77C444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1A12E-2561-469A-88BF-5E6A9173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C4455-D23C-40BE-8E6C-360FEDB9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419E6-2AB4-4E1A-B6AA-FBD58B30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4B39C-E4E6-4FC3-A55D-40B2A528D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930DB-8013-4443-8FCF-08B149C75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7B425-518E-4E07-9914-4ACC841CB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C426F-4DAD-4647-98CA-A11374083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D0ED-0D41-406B-B3F5-23127FFFA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9BE8C-F031-41CE-A72B-47C29C988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EE8F5-707A-4FAA-9B9F-AF6961935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29F5C-6CDB-4417-A12A-EC90E441E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A4334-D5E1-475D-8FB1-8E7B253F1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5081E-21D6-45B3-9C7C-879371D7B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6187D-A17D-499E-B885-9CBA42AB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10E64-FCC4-4180-AD92-5F2E489A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81F2A-2F32-4998-BB25-BA122F73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E498C-773F-4C1B-8190-C96E9386D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E5352-4C82-4F92-85B5-9230A4AB9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1019-59C5-468E-9C43-2B16E2A0C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4C40C-19D6-40AC-88F3-0DCC5C33A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0495D-BFB4-4FEE-A631-EFD7DF954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A7355-CE36-4032-AB64-E7A6F754D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29B1B-59E2-4164-9C46-BDF445505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5C272-9B07-4A80-B158-906B7789B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4F3AC-A02B-4A55-9700-9769257EE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34B39B-3DCC-40B0-A4C7-DE4007AF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050ED-D74B-4BEF-8231-3DA57989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7F3E1-9B24-4184-8324-CC31E10C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61C0D-DAA9-4F92-8E38-5FB0EEAD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1477-FD53-40AA-8CA4-5A100FCD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2DA9CB-7C10-4910-B540-9E6CDA044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1C823-3148-4462-A5C3-525CECA71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294C0-4592-470E-AFEC-9F3DA9BDE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02353-E567-4419-A65C-C1DC88E33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DE676B-3B07-40BA-A5B3-4AC1095F2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577C60-C115-4B5A-AF17-D06B74397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A604A-7218-4526-B182-74E36FAF2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9B9351-AB0E-471A-A70F-8DD650C47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6C8024-5F76-48C4-AF76-2F4F01604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DA4E92-8EED-43B6-A5D8-B4A56A06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2B9F-80E5-4B17-B5DE-B3A97754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1EF646-9F7D-4D6A-89F7-0E63ACAA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DE3626-0D9E-4A3D-B844-CA00608A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B51B6-C9B6-4F52-897B-316789006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B93E5-AB14-478B-9364-7B900672E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EE3FA3-9E07-4666-AF5F-AA3E67C4F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C70B53-18E5-43DD-B65E-4CA12F241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F8185E-C70B-46AD-95A2-222CE5025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3D8728-B29D-4E95-AD6C-4425B0510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4DFF4C-C660-4EFC-B1D2-2DC02D4DE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D00757-6FC5-4E4F-B277-653498FF4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9919-F22B-42FB-AFFF-CCE4C755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6A9111-7A3A-4C22-A9EB-944A19686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5BE89A-FBE3-40C6-B092-A1491780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1F4C41-FC54-4075-BFE8-B8B6254B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DDAE5-15F9-4219-8C21-DA53637C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F83C05-170B-4DD1-8329-A596473FC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050A55-F5AF-4FE3-A769-777EE694B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31DB4E-FF59-4204-9269-C1A299FC8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84A963-5D17-4DE4-8D58-95128D862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037B9A-8255-438E-857F-4D5C1306C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CCB910-E7BC-420D-A043-384BB8559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ECE7A-6A29-47E4-941A-1532299693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6898-E9A1-4F60-97ED-48E9B45F76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575DA-11C1-4AF6-9A5F-72DE615DC4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46ADB-99DA-462A-AEC0-BDBABD829A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2E4D0-D5DD-4220-BB20-747084D6C8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25D15-5623-47C3-93A1-FB26245BD3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903C7-6C14-4C74-873E-E7CA0F370C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68BDE-EBC4-4A26-839C-C149792C8B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25ED5-7ED0-488F-A70D-4FD90CB353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EFFE9-E03B-4619-A62C-60F8CE1FDE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7D219-CEFD-4C84-97BC-AB21788874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BB80B-D428-4E30-908D-4AF56567A9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itle 1"/>
          <p:cNvSpPr/>
          <p:nvPr/>
        </p:nvSpPr>
        <p:spPr>
          <a:xfrm>
            <a:off x="1763640" y="2492280"/>
            <a:ext cx="504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  <a:ea typeface="Arial"/>
              </a:rPr>
              <a:t>Физиологиј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Arial"/>
                <a:ea typeface="Arial"/>
              </a:rPr>
              <a:t>новорођеног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Arial"/>
                <a:ea typeface="Arial"/>
              </a:rPr>
              <a:t>детет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Subtitle 2"/>
          <p:cNvSpPr/>
          <p:nvPr/>
        </p:nvSpPr>
        <p:spPr>
          <a:xfrm>
            <a:off x="2987640" y="5013360"/>
            <a:ext cx="5716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оф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д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Александр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имови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1" name="Picture 8" descr="http://www.volonterskicentarkg.org/wp-content/uploads/2011/02/MEDFKG-181x3002.jpg"/>
          <p:cNvPicPr/>
          <p:nvPr/>
        </p:nvPicPr>
        <p:blipFill>
          <a:blip r:embed="rId1"/>
          <a:stretch/>
        </p:blipFill>
        <p:spPr>
          <a:xfrm>
            <a:off x="3995640" y="260280"/>
            <a:ext cx="1081080" cy="973080"/>
          </a:xfrm>
          <a:prstGeom prst="rect">
            <a:avLst/>
          </a:prstGeom>
          <a:ln w="0">
            <a:noFill/>
          </a:ln>
        </p:spPr>
      </p:pic>
      <p:sp>
        <p:nvSpPr>
          <p:cNvPr id="502" name="TextBox 6"/>
          <p:cNvSpPr/>
          <p:nvPr/>
        </p:nvSpPr>
        <p:spPr>
          <a:xfrm>
            <a:off x="1116000" y="476280"/>
            <a:ext cx="302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MEDICINSKI FAKULT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UNIVERZITET U KRAGUJEVC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TextBox 7"/>
          <p:cNvSpPr/>
          <p:nvPr/>
        </p:nvSpPr>
        <p:spPr>
          <a:xfrm>
            <a:off x="4859280" y="476280"/>
            <a:ext cx="309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HE MEDICAL FACUL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UNIVERSITY OF KRAGUJEVAC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2"/>
          <p:cNvSpPr/>
          <p:nvPr/>
        </p:nvSpPr>
        <p:spPr>
          <a:xfrm>
            <a:off x="611280" y="476280"/>
            <a:ext cx="72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 Narrow"/>
              </a:rPr>
              <a:t>П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РИСТУП </a:t>
            </a:r>
            <a:r>
              <a:rPr b="1" lang="sr-CS" sz="3200" spc="-1" strike="noStrike">
                <a:solidFill>
                  <a:srgbClr val="000000"/>
                </a:solidFill>
                <a:latin typeface="Arial Narrow"/>
              </a:rPr>
              <a:t>НОВОРОЂЕНОМ ДЕТЕТ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Rectangle 3"/>
          <p:cNvSpPr/>
          <p:nvPr/>
        </p:nvSpPr>
        <p:spPr>
          <a:xfrm>
            <a:off x="428760" y="1857240"/>
            <a:ext cx="757224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ако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оце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италност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/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АС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1.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ин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/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рш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одвезивањ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упчаник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оворођенч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енос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abyterm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гд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провод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идентификациони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оступак</a:t>
            </a:r>
            <a:r>
              <a:rPr b="1" lang="sr-Latn-C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Rectangle 4"/>
          <p:cNvSpPr/>
          <p:nvPr/>
        </p:nvSpPr>
        <p:spPr>
          <a:xfrm>
            <a:off x="1428840" y="4572000"/>
            <a:ext cx="6500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Новорођенче</a:t>
            </a:r>
            <a:r>
              <a:rPr b="0" lang="sr-Latn-C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показује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мајци</a:t>
            </a:r>
            <a:r>
              <a:rPr b="0" lang="sr-Latn-C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(голо), због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опсервације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видљивих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аномалија </a:t>
            </a:r>
            <a:r>
              <a:rPr b="1" lang="sr-C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и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пола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1"/>
          <p:cNvSpPr/>
          <p:nvPr/>
        </p:nvSpPr>
        <p:spPr>
          <a:xfrm>
            <a:off x="826920" y="62064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TextBox 2"/>
          <p:cNvSpPr/>
          <p:nvPr/>
        </p:nvSpPr>
        <p:spPr>
          <a:xfrm>
            <a:off x="755640" y="642960"/>
            <a:ext cx="767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Arial"/>
                <a:ea typeface="Arial"/>
              </a:rPr>
              <a:t>ИДЕНТИФИКАЦИОНИ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Arial"/>
                <a:ea typeface="Arial"/>
              </a:rPr>
              <a:t>ПОСТУПА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Rectangle 5"/>
          <p:cNvSpPr/>
          <p:nvPr/>
        </p:nvSpPr>
        <p:spPr>
          <a:xfrm>
            <a:off x="1071720" y="1785960"/>
            <a:ext cx="750096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1f497d"/>
                </a:solidFill>
                <a:latin typeface="Arial Narrow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тављ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детет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ајци наруквиц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мено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броје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онављ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Апгар ско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/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ин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оцењу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гестацијска старос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траг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з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орођајни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овредам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алформацијам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/</a:t>
            </a:r>
            <a:r>
              <a:rPr b="0" lang="en-US" sz="2800" spc="-1" strike="noStrike">
                <a:solidFill>
                  <a:srgbClr val="00b0f0"/>
                </a:solidFill>
                <a:latin typeface="Arial"/>
                <a:ea typeface="Arial"/>
              </a:rPr>
              <a:t>проверева </a:t>
            </a:r>
            <a:r>
              <a:rPr b="0" lang="sr-CS" sz="2800" spc="-1" strike="noStrike">
                <a:solidFill>
                  <a:srgbClr val="00b0f0"/>
                </a:solidFill>
                <a:latin typeface="Arial"/>
                <a:ea typeface="Arial"/>
              </a:rPr>
              <a:t>проходност</a:t>
            </a:r>
            <a:r>
              <a:rPr b="0" lang="en-US" sz="2800" spc="-1" strike="noStrike">
                <a:solidFill>
                  <a:srgbClr val="00b0f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b0f0"/>
                </a:solidFill>
                <a:latin typeface="Arial"/>
                <a:ea typeface="Arial"/>
              </a:rPr>
              <a:t>једњака</a:t>
            </a:r>
            <a:r>
              <a:rPr b="0" lang="en-US" sz="2800" spc="-1" strike="noStrike">
                <a:solidFill>
                  <a:srgbClr val="00b0f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b0f0"/>
                </a:solidFill>
                <a:latin typeface="Arial"/>
                <a:ea typeface="Arial"/>
              </a:rPr>
              <a:t>и</a:t>
            </a:r>
            <a:r>
              <a:rPr b="0" lang="en-US" sz="2800" spc="-1" strike="noStrike">
                <a:solidFill>
                  <a:srgbClr val="00b0f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b0f0"/>
                </a:solidFill>
                <a:latin typeface="Arial"/>
                <a:ea typeface="Arial"/>
              </a:rPr>
              <a:t>анус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6.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узимај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е антропометријск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ер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Т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Т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Г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/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2"/>
          <p:cNvSpPr/>
          <p:nvPr/>
        </p:nvSpPr>
        <p:spPr>
          <a:xfrm>
            <a:off x="0" y="765000"/>
            <a:ext cx="8643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ПОСТУПАК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С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ЗДРАВИМ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НОВОРОЂЕНЧЕТОМ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37" name="Picture 10" descr="aspiracija"/>
          <p:cNvPicPr/>
          <p:nvPr/>
        </p:nvPicPr>
        <p:blipFill>
          <a:blip r:embed="rId1"/>
          <a:stretch/>
        </p:blipFill>
        <p:spPr>
          <a:xfrm>
            <a:off x="5616720" y="2714760"/>
            <a:ext cx="3527280" cy="3743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38" name="Rectangle 4"/>
          <p:cNvSpPr/>
          <p:nvPr/>
        </p:nvSpPr>
        <p:spPr>
          <a:xfrm>
            <a:off x="428760" y="2357280"/>
            <a:ext cx="5000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ahoma"/>
              </a:rPr>
              <a:t>Пре првог удаха новорођенчет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ahoma"/>
              </a:rPr>
              <a:t>треба нежно АСПИРИРАТИ  усну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ahoma"/>
              </a:rPr>
              <a:t>шупљину, ждрело и нос да би с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ahoma"/>
              </a:rPr>
              <a:t>спречила аспирација садржаја кој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ahoma"/>
              </a:rPr>
              <a:t>иначе испуњава плућа до час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ahoma"/>
              </a:rPr>
              <a:t>рођењ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ahoma"/>
              </a:rPr>
              <a:t>Аспирација је неопходна ако је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ahoma"/>
              </a:rPr>
              <a:t>плодова вода </a:t>
            </a:r>
            <a:r>
              <a:rPr b="0" lang="sr-RS" sz="2400" spc="-1" strike="noStrike">
                <a:solidFill>
                  <a:srgbClr val="ff0000"/>
                </a:solidFill>
                <a:latin typeface="Tahoma"/>
              </a:rPr>
              <a:t>густа, меконијална, крвава ил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0000"/>
                </a:solidFill>
                <a:latin typeface="Tahoma"/>
              </a:rPr>
              <a:t>дете депримирано </a:t>
            </a:r>
            <a:r>
              <a:rPr b="0" lang="sr-RS" sz="2400" spc="-1" strike="noStrike">
                <a:solidFill>
                  <a:srgbClr val="000000"/>
                </a:solidFill>
                <a:latin typeface="Tahoma"/>
              </a:rPr>
              <a:t>!!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  <a:ea typeface="Arial"/>
              </a:rPr>
              <a:t>АПГАР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  <a:ea typeface="Arial"/>
              </a:rPr>
              <a:t>СК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500040" y="1428480"/>
            <a:ext cx="5286240" cy="48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едстављ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збирн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цен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ардиопулмонал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ерв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функц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ете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1.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ин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аје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датке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италности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оворођенче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5.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ин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. 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АЖНИЈИ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!!!)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аје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нформације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брзини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даптације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здравог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оворођенчета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дносно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брзини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поравка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сфиктичног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оворођенче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1" name="Picture 4" descr=""/>
          <p:cNvPicPr/>
          <p:nvPr/>
        </p:nvPicPr>
        <p:blipFill>
          <a:blip r:embed="rId1"/>
          <a:stretch/>
        </p:blipFill>
        <p:spPr>
          <a:xfrm>
            <a:off x="5786280" y="2286000"/>
            <a:ext cx="3168720" cy="4365720"/>
          </a:xfrm>
          <a:prstGeom prst="rect">
            <a:avLst/>
          </a:prstGeom>
          <a:ln w="0">
            <a:noFill/>
          </a:ln>
        </p:spPr>
      </p:pic>
      <p:sp>
        <p:nvSpPr>
          <p:cNvPr id="542" name="TextBox 5"/>
          <p:cNvSpPr/>
          <p:nvPr/>
        </p:nvSpPr>
        <p:spPr>
          <a:xfrm>
            <a:off x="6504840" y="1785960"/>
            <a:ext cx="22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Virginia Apg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0" y="-828720"/>
            <a:ext cx="8820000" cy="188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sr-Latn-CS" sz="44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1" lang="sr-CS" sz="4400" spc="-1" strike="noStrike">
                <a:solidFill>
                  <a:srgbClr val="000000"/>
                </a:solidFill>
                <a:latin typeface="Arial Black"/>
              </a:rPr>
              <a:t>ПГАР СК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4" name=""/>
          <p:cNvGraphicFramePr/>
          <p:nvPr/>
        </p:nvGraphicFramePr>
        <p:xfrm>
          <a:off x="0" y="1341360"/>
          <a:ext cx="9144000" cy="4753080"/>
        </p:xfrm>
        <a:graphic>
          <a:graphicData uri="http://schemas.openxmlformats.org/drawingml/2006/table">
            <a:tbl>
              <a:tblPr/>
              <a:tblGrid>
                <a:gridCol w="2714760"/>
                <a:gridCol w="2000160"/>
                <a:gridCol w="2286000"/>
                <a:gridCol w="21430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      </a:t>
                      </a:r>
                      <a:r>
                        <a:rPr b="1" lang="sr-Latn-CS" sz="3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        </a:t>
                      </a:r>
                      <a:r>
                        <a:rPr b="1" lang="sr-Latn-CS" sz="3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      </a:t>
                      </a:r>
                      <a:r>
                        <a:rPr b="1" lang="sr-Latn-CS" sz="3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БОЈА КОЖ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БЛЕД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ЦИЈАНОТИЧН</a:t>
                      </a:r>
                      <a:r>
                        <a:rPr b="1" lang="sr-Latn-CS" sz="2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РУЖИЧАС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ПУЛ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ДСУТ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&lt; 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&gt; 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НУ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ЛИТА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ЛАБ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 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ФЛЕКСИЈ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ДОБР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 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ФЛЕКСИ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J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00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РЕСПИРАЦИЈ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ДСУТН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ПОВРШН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Р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TAK 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ПЛ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НАДРАЖЉИВОС</a:t>
                      </a:r>
                      <a:r>
                        <a:rPr b="1" lang="sr-Latn-CS" sz="2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БЕЗ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O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ДГОВОР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ГРИМАС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БРАНИ С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, 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ПЛАЧ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3"/>
          <p:cNvSpPr/>
          <p:nvPr/>
        </p:nvSpPr>
        <p:spPr>
          <a:xfrm>
            <a:off x="214200" y="1785960"/>
            <a:ext cx="5143680" cy="54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Вит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 даје у циљу профилаксе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хеморагијске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олест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оворођенчет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бавезна је заштита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упчаног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атрљка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нтисептиком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штита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чију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пале се врши укапавањем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: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0,5%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ритромицина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-2,5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%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видон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јода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TextBox 5"/>
          <p:cNvSpPr/>
          <p:nvPr/>
        </p:nvSpPr>
        <p:spPr>
          <a:xfrm>
            <a:off x="357120" y="35712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0000"/>
                </a:solidFill>
                <a:latin typeface="Arial"/>
                <a:ea typeface="Arial"/>
              </a:rPr>
              <a:t>ПОСТУПАК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ff0000"/>
                </a:solidFill>
                <a:latin typeface="Arial"/>
                <a:ea typeface="Arial"/>
              </a:rPr>
              <a:t>СА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ff0000"/>
                </a:solidFill>
                <a:latin typeface="Arial"/>
                <a:ea typeface="Arial"/>
              </a:rPr>
              <a:t>ЗДРАВИМ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ff0000"/>
                </a:solidFill>
                <a:latin typeface="Arial"/>
                <a:ea typeface="Arial"/>
              </a:rPr>
              <a:t>НОВОРОЂЕНЧЕТОМ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7" name="Picture 10" descr="Credejeve kaplice"/>
          <p:cNvPicPr/>
          <p:nvPr/>
        </p:nvPicPr>
        <p:blipFill>
          <a:blip r:embed="rId1"/>
          <a:stretch/>
        </p:blipFill>
        <p:spPr>
          <a:xfrm>
            <a:off x="5187960" y="3573360"/>
            <a:ext cx="3956040" cy="3284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1"/>
          <p:cNvSpPr/>
          <p:nvPr/>
        </p:nvSpPr>
        <p:spPr>
          <a:xfrm>
            <a:off x="214200" y="1000080"/>
            <a:ext cx="52866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уг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-3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цм.Представљ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стата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упча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рпц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ој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бич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асуш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тпадн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з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2-15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ан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ИНФЕКЦИЈЕ ПУПК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Tahoma"/>
              </a:rPr>
              <a:t>Blenorrhoea umbilici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 влажење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пупчане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ране,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које условљава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настанак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Granuloma umbilici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-израштај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запаљенско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кив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ој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ож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би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широк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ичвршће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баз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упк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чешћ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ис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етељц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Оmphalitis и умбиликална флегмон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TextBox 2"/>
          <p:cNvSpPr/>
          <p:nvPr/>
        </p:nvSpPr>
        <p:spPr>
          <a:xfrm>
            <a:off x="2428920" y="285840"/>
            <a:ext cx="400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ПУПЧАНИ ПАТРЉА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50" name="Picture 4" descr="IV"/>
          <p:cNvPicPr/>
          <p:nvPr/>
        </p:nvPicPr>
        <p:blipFill>
          <a:blip r:embed="rId1"/>
          <a:stretch/>
        </p:blipFill>
        <p:spPr>
          <a:xfrm>
            <a:off x="5500800" y="3714840"/>
            <a:ext cx="3357360" cy="292896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4" descr="IV"/>
          <p:cNvPicPr/>
          <p:nvPr/>
        </p:nvPicPr>
        <p:blipFill>
          <a:blip r:embed="rId2"/>
          <a:stretch/>
        </p:blipFill>
        <p:spPr>
          <a:xfrm>
            <a:off x="5715000" y="1071720"/>
            <a:ext cx="307188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Ж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ДРАВОГ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ОВОРОЂЕНЧ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357120" y="1125000"/>
            <a:ext cx="8501040" cy="551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Бледа-анемија, плеторична-полицитем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Марморизациј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кож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акроцијаноз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цијаноз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шак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стопал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обичн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нис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атолошк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знац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већ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оследиц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вазомоторн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температурн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нестабилност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новорођенчет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Mill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а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је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физиолошк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промен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виду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ситних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белих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папул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н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лицу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нарочито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н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челу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нос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Милијарија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кристалина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је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запушење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знојног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каналић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н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површини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коже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им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изглед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ситних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везикулиц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с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бистрим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садржај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Монголска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мрљ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је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транзиторн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тамноплав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макул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различитих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димензиј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лумбосакралном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пределу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или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н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кожи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глутеус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јављ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се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код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90%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НН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азијског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афричког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порекл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Капиларни хемангиоми, Пигментни невус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a7d6ff"/>
                </a:solidFill>
                <a:latin typeface="Arial Narrow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ТЕЛЕСНА И АМБИЈЕТАЛНА ТЕМПЕРАТУ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0" y="1213920"/>
            <a:ext cx="87868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За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време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феталног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живота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борба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против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прегревања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плацента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терморегулато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ТЕЖЕ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ОДРЖАВА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ТЕЛЕСНУ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ТЕМПЕРАТУРУ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Хомеотерм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танка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влажна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кожа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велика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телесна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површина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слабо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развијено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масно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тки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НОРМАЛНА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°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Arial"/>
              </a:rPr>
              <a:t>  36-36,5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°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аксиларно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или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Arial"/>
              </a:rPr>
              <a:t> 37-37,5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°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С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ректално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у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порођајној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сали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  <a:ea typeface="Arial"/>
              </a:rPr>
              <a:t>Т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око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Arial"/>
              </a:rPr>
              <a:t> 2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°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С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За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неодевено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Arial"/>
              </a:rPr>
              <a:t>  31-34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°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и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ВЛАЖНОСТ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Arial"/>
              </a:rPr>
              <a:t> 50%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  <a:ea typeface="Arial"/>
              </a:rPr>
              <a:t> у изоле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За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одевено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Arial"/>
              </a:rPr>
              <a:t>  24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°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  <a:ea typeface="Arial"/>
              </a:rPr>
              <a:t>у соб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ТРАНСПОРТНИ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ИНКУБАТО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ИНФРАЦРВЕНИ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СТ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 Narrow"/>
              </a:rPr>
              <a:t>Пропорције</a:t>
            </a:r>
            <a:r>
              <a:rPr b="0" lang="sr-Latn-CS" sz="4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Arial Narrow"/>
              </a:rPr>
              <a:t>те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356760" y="1412640"/>
            <a:ext cx="857268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Глав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елик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(1/4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дужи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тел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д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драслих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1/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Лиц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ал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кругласт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андибул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лаб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развије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Грудн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ш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аљкас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Абдомен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спупче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реди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тел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знад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умбилику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Екстремитет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ратк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емифлексиј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днос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глав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убис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убис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топал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1,7 (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д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драслих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к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1,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 rot="10800000">
            <a:off x="868320" y="1426320"/>
            <a:ext cx="46080" cy="57240"/>
          </a:xfrm>
          <a:prstGeom prst="rect">
            <a:avLst/>
          </a:prstGeom>
          <a:noFill/>
          <a:ln w="0">
            <a:noFill/>
          </a:ln>
        </p:spPr>
        <p:txBody>
          <a:bodyPr tIns="11520" bIns="11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44ac"/>
                </a:solidFill>
                <a:latin typeface="Calibri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914400" y="549000"/>
            <a:ext cx="7772400" cy="58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Calibri"/>
                <a:ea typeface="Arial"/>
              </a:rPr>
              <a:t>Неонатологиј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Arial"/>
              </a:rPr>
              <a:t>ј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Arial"/>
              </a:rPr>
              <a:t>област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Arial"/>
              </a:rPr>
              <a:t>педијатриј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Arial"/>
              </a:rPr>
              <a:t>кој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Arial"/>
              </a:rPr>
              <a:t>изучав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Arial"/>
              </a:rPr>
              <a:t>физиологиј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Arial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Arial"/>
              </a:rPr>
              <a:t>патологиј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Arial"/>
              </a:rPr>
              <a:t>детет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Arial"/>
              </a:rPr>
              <a:t>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Arial"/>
              </a:rPr>
              <a:t>првих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28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  <a:ea typeface="Arial"/>
              </a:rPr>
              <a:t>дана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  <a:ea typeface="Arial"/>
              </a:rPr>
              <a:t>живота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Calibri"/>
                <a:ea typeface="Arial"/>
              </a:rPr>
              <a:t>Перинаталогија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Arial"/>
              </a:rPr>
              <a:t>ј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Arial"/>
              </a:rPr>
              <a:t>новиј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Arial"/>
              </a:rPr>
              <a:t>медицинск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Arial"/>
              </a:rPr>
              <a:t>дисципли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Arial"/>
              </a:rPr>
              <a:t>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Arial"/>
              </a:rPr>
              <a:t>чиј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Arial"/>
              </a:rPr>
              <a:t>домен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Arial"/>
              </a:rPr>
              <a:t>спадај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Arial"/>
              </a:rPr>
              <a:t>св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Arial"/>
              </a:rPr>
              <a:t>збивањ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Arial"/>
              </a:rPr>
              <a:t>од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  <a:ea typeface="Arial"/>
              </a:rPr>
              <a:t>навршен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  <a:ea typeface="Arial"/>
              </a:rPr>
              <a:t>г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  <a:ea typeface="Arial"/>
              </a:rPr>
              <a:t>н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  <a:ea typeface="Arial"/>
              </a:rPr>
              <a:t>до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  <a:ea typeface="Arial"/>
              </a:rPr>
              <a:t>краја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  <a:ea typeface="Arial"/>
              </a:rPr>
              <a:t>прве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  <a:ea typeface="Arial"/>
              </a:rPr>
              <a:t>постнаталн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Arial"/>
              </a:rPr>
              <a:t>односн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Arial"/>
              </a:rPr>
              <a:t>постпарталн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  <a:ea typeface="Arial"/>
              </a:rPr>
              <a:t>недељ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 Narrow"/>
              </a:rPr>
              <a:t>ТЕЖИНА</a:t>
            </a:r>
            <a:r>
              <a:rPr b="0" lang="sr-Latn-CS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sr-CS" sz="3200" spc="-1" strike="noStrike">
                <a:solidFill>
                  <a:srgbClr val="000000"/>
                </a:solidFill>
                <a:latin typeface="Arial Narrow"/>
              </a:rPr>
              <a:t>НОВОРОЂЕНЧ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500040" y="1285560"/>
            <a:ext cx="614376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орођајн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телесн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мас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ТМ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најчешћ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2500-4500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г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-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росечно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3,4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кг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Мушк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дец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з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100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д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150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г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теж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од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женск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Уколик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ј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ТМ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&lt;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2500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г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испитат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разлоге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мал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Т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родитељ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лош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исхран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или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навик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болест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мајк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ТМ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&gt;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4500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г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дет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дијабетичн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мајк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?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TextBox 4"/>
          <p:cNvSpPr/>
          <p:nvPr/>
        </p:nvSpPr>
        <p:spPr>
          <a:xfrm>
            <a:off x="357120" y="4643280"/>
            <a:ext cx="878688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вих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д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 5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дан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ff0000"/>
                </a:solidFill>
                <a:latin typeface="Arial"/>
                <a:ea typeface="Arial"/>
              </a:rPr>
              <a:t>изгуби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Arial"/>
              </a:rPr>
              <a:t>5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% </a:t>
            </a:r>
            <a:r>
              <a:rPr b="1" lang="sr-CS" sz="2000" spc="-1" strike="noStrike">
                <a:solidFill>
                  <a:srgbClr val="ff0000"/>
                </a:solidFill>
                <a:latin typeface="Arial"/>
                <a:ea typeface="Arial"/>
              </a:rPr>
              <a:t>до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10%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ТМ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губ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ч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мок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њ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с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лиц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дисањ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тивни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г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њ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Започињање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одоја,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b0f0"/>
                </a:solidFill>
                <a:latin typeface="Arial"/>
                <a:ea typeface="Arial"/>
              </a:rPr>
              <a:t>ПТМ</a:t>
            </a:r>
            <a:r>
              <a:rPr b="1" lang="sr-Latn-CS" sz="2000" spc="-1" strike="noStrike">
                <a:solidFill>
                  <a:srgbClr val="00b0f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b0f0"/>
                </a:solidFill>
                <a:latin typeface="Arial"/>
                <a:ea typeface="Arial"/>
              </a:rPr>
              <a:t>се</a:t>
            </a:r>
            <a:r>
              <a:rPr b="1" lang="sr-Latn-CS" sz="2000" spc="-1" strike="noStrike">
                <a:solidFill>
                  <a:srgbClr val="00b0f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b0f0"/>
                </a:solidFill>
                <a:latin typeface="Arial"/>
                <a:ea typeface="Arial"/>
              </a:rPr>
              <a:t>д</a:t>
            </a:r>
            <a:r>
              <a:rPr b="1" lang="ru-RU" sz="2000" spc="-1" strike="noStrike">
                <a:solidFill>
                  <a:srgbClr val="00b0f0"/>
                </a:solidFill>
                <a:latin typeface="Arial"/>
                <a:ea typeface="Arial"/>
              </a:rPr>
              <a:t>о</a:t>
            </a:r>
            <a:r>
              <a:rPr b="1" lang="sr-CS" sz="2000" spc="-1" strike="noStrike">
                <a:solidFill>
                  <a:srgbClr val="00b0f0"/>
                </a:solidFill>
                <a:latin typeface="Arial"/>
                <a:ea typeface="Arial"/>
              </a:rPr>
              <a:t>стигн</a:t>
            </a:r>
            <a:r>
              <a:rPr b="1" lang="ru-RU" sz="2000" spc="-1" strike="noStrike">
                <a:solidFill>
                  <a:srgbClr val="00b0f0"/>
                </a:solidFill>
                <a:latin typeface="Arial"/>
                <a:ea typeface="Arial"/>
              </a:rPr>
              <a:t>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осеку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b0f0"/>
                </a:solidFill>
                <a:latin typeface="Arial"/>
                <a:ea typeface="Arial"/>
              </a:rPr>
              <a:t>за</a:t>
            </a:r>
            <a:r>
              <a:rPr b="1" lang="sr-Latn-CS" sz="2000" spc="-1" strike="noStrike">
                <a:solidFill>
                  <a:srgbClr val="00b0f0"/>
                </a:solidFill>
                <a:latin typeface="Arial"/>
                <a:ea typeface="Arial"/>
              </a:rPr>
              <a:t> 2 </a:t>
            </a:r>
            <a:r>
              <a:rPr b="1" lang="sr-CS" sz="2000" spc="-1" strike="noStrike">
                <a:solidFill>
                  <a:srgbClr val="00b0f0"/>
                </a:solidFill>
                <a:latin typeface="Arial"/>
                <a:ea typeface="Arial"/>
              </a:rPr>
              <a:t>недеље</a:t>
            </a:r>
            <a:r>
              <a:rPr b="1" lang="sr-Latn-CS" sz="2000" spc="-1" strike="noStrike">
                <a:solidFill>
                  <a:srgbClr val="00b0f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од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рођења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1" name="Picture 4" descr="http://www.mamaibeba.rs/images/stories/bebina%20tezina%20dva.jpg"/>
          <p:cNvPicPr/>
          <p:nvPr/>
        </p:nvPicPr>
        <p:blipFill>
          <a:blip r:embed="rId1"/>
          <a:stretch/>
        </p:blipFill>
        <p:spPr>
          <a:xfrm>
            <a:off x="6572160" y="1785960"/>
            <a:ext cx="25718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ДУЖИНА</a:t>
            </a:r>
            <a:r>
              <a:rPr b="0" lang="sr-Latn-CS" sz="2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ОБИМИ</a:t>
            </a:r>
            <a:r>
              <a:rPr b="0" lang="sr-Latn-C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НОВОРОЂЕНЧЕ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285480" y="1428480"/>
            <a:ext cx="80722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осеч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дужи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оворођенчет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к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52±2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ц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;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Дечац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осек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1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ц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дуж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девојчиц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осечан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би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глав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Г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к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35±1,5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ц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ер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е меканим сантиметром постављеним 0,5 цм изнад горње ивице обрва и ушних шкољки и преко најширег дела окципиталне к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би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грудног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ш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трбух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ст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рођењ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1-2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ц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ањ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бим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глав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TextBox 6"/>
          <p:cNvSpPr/>
          <p:nvPr/>
        </p:nvSpPr>
        <p:spPr>
          <a:xfrm>
            <a:off x="6588000" y="364500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 Narrow"/>
              </a:rPr>
              <a:t>OG=TD/2+10c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ГЛА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285480" y="1142640"/>
            <a:ext cx="86439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Велика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фонтанел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редња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ромбоидног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облик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1x1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д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4x4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ц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Налаз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измеђ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фронталних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аријеталних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костиј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ниво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оглавин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мек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алпациј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Нормалн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затвар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с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9-18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месец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Мала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фонтанела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(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Задња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Налаз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измеђ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окципиталн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аријеталних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костиј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рођењ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треб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д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отворен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0,25-1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ц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Нормалн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затвар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с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4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месец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Фузија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главних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сутура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лобањских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костиј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настај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с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5-6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месец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Отворен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сутур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омогућавај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ремоделирањ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лобањ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,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 током порођа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озиционе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деформације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условљене типо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резентациј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НАДУВ, КЕФАЛХЕМАТО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4"/>
          <p:cNvSpPr/>
          <p:nvPr/>
        </p:nvSpPr>
        <p:spPr>
          <a:xfrm>
            <a:off x="395280" y="1214280"/>
            <a:ext cx="8391600" cy="50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Очи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(антимонголоидне/монголоидне-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wn sy,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хипо/хипертелоризам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Језик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(макроглосија-хипотироидизам, мукополисахаридозе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Уши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(анотија, микротија, макротија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Уста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(микростомија, макростомија) Епстеинове перле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Хиперсаливација-атрезија једњак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Нос</a:t>
            </a:r>
            <a:r>
              <a:rPr b="1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аплатиран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при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респирацијам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се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носн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крилц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нормално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не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померају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!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Искривљеност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знак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дислокације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хрскавице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Мали, седласт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фетални алкохолни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синдром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ахондроплазија; велики нос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 тризомија 1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Calibri"/>
              </a:rPr>
              <a:t>Атрезија</a:t>
            </a:r>
            <a:r>
              <a:rPr b="1" lang="sr-Latn-C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ff0000"/>
                </a:solidFill>
                <a:latin typeface="Calibri"/>
              </a:rPr>
              <a:t>хоан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скључује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амом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ођењу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тављањем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зогастричне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онд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ВРАТ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нормално кратак. Дугачак у хипотонији, тешкој церебралној патњи и миопатијма. Конгениталне абнормалности врата (циста дуктуса тиреоглосуса, цистични хигром, птеригијум, конгенитална струма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Rectangle 2"/>
          <p:cNvSpPr/>
          <p:nvPr/>
        </p:nvSpPr>
        <p:spPr>
          <a:xfrm>
            <a:off x="857160" y="-1000080"/>
            <a:ext cx="600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TextBox 3"/>
          <p:cNvSpPr/>
          <p:nvPr/>
        </p:nvSpPr>
        <p:spPr>
          <a:xfrm>
            <a:off x="4114440" y="428760"/>
            <a:ext cx="130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ЛИЦ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 Narrow"/>
              </a:rPr>
              <a:t>ГРУДНИ</a:t>
            </a:r>
            <a:r>
              <a:rPr b="0" lang="sr-Latn-CS" sz="4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Arial Narrow"/>
              </a:rPr>
              <a:t>КО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0" y="1125000"/>
            <a:ext cx="9144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Респирације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првих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15-20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дана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искључиво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назалне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периодичн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Дисање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дијафрагмалног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типа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Р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=40-60/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мин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Аускултаторно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дисање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грубље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везикуларно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симетрично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без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пропратних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шушњев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Врх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срца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нормално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уз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леву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ивицу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стернум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Иктус срца на десној стран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декстропозициј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срца, тензиони пнеумоторакс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левострана дијафрагмална херниј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Ср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=140±20/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мин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Може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толерисати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&lt;180/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мин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.). </a:t>
            </a:r>
            <a:r>
              <a:rPr b="0" lang="sr-CS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Релативна</a:t>
            </a:r>
            <a:r>
              <a:rPr b="0" lang="sr-Latn-CS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sr-CS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брадикардија</a:t>
            </a:r>
            <a:r>
              <a:rPr b="0" lang="sr-Latn-CS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&lt;100/</a:t>
            </a:r>
            <a:r>
              <a:rPr b="0" lang="sr-CS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мин</a:t>
            </a:r>
            <a:r>
              <a:rPr b="0" lang="sr-Latn-CS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стална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могућ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конгенитални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блок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транзиторна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апноичним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кризама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Периферн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пул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395280" y="1412640"/>
            <a:ext cx="82915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Одсуство пулса на доњим екстремитетима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казује на коарктацију аорт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Слабо пуњен пулс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оже да буде последица хипоплазије левог срца и стенозе аорте али чешће је знак хиповолемије, хипотензије и шокног стањ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ТА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се изузетно мери при првом прегледу новорођенчета. При томе се мора водити рачуна да манжетна покрива 2/3 надлактице или надколенице.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вис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ГС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зраст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 (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60-90/30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mHg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АБДОМЕ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-360" y="980640"/>
            <a:ext cx="871524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рођењу предњи трбушни зид је лако испод равни грудног кош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Обавезно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регледати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анус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малим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катетером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Видљив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венск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цртеж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без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атолошког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значај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Угнут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трбух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је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увек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ненормалан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налаз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смањен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интестиналн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волумен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дуоденална стеноз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 дијафрагмалн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херниј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Дистензија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зид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мегаколон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меконијални илеус,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асцит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неумоперитонеу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Јетра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алпир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1-3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ц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медиоклавикуларној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линиј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Нормалн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овршин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јетр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глатк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Слезин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остављен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латералн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изнад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левог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бубрег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мож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алпират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њен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доњ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ол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УРОГЕНИТАЛНИ ТРАК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Бубрез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су лако палпабилни. Палпирају се предњом, дубоком палпацијом. Леви бубрег је нешто нижи од десног. Могу бити потиснути хематомом или Т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Унилатерална хипертрофија - хидронефроза или микроцистична дисплазиј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Билатерална хипертрофија-инфантилни облик полицистичне боле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М. бешик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е лако палпира када је пу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Спољашње гениталије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у инфантилне, показују бројне посебности: Код дечака -физиолошка фимоза, хипо/еписпадија, ненормална боја коже скротума (меконијални илеус, интраперитонеална хеморагија, КАХ). Код девојчица-велике усне не покривају мале све до термина, вагинална секре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КИЧМЕНИ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СТУ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571680" y="928800"/>
            <a:ext cx="792936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9720" indent="-571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39720" indent="-571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39720" indent="-5713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  <a:ea typeface="Arial"/>
              </a:rPr>
              <a:t>Код новорођенчета кичмени стуб је прав и нема физиолошких кривина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39720" indent="-5713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39720" indent="-57132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  <a:ea typeface="Arial"/>
              </a:rPr>
              <a:t>Асиметрија леве и десне половине леђа с абнормалном кривином кичменог стуба указују на умерену или тешку конгениталну сколиозу</a:t>
            </a:r>
            <a:r>
              <a:rPr b="0" lang="sr-CS" sz="4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TextBox 4"/>
          <p:cNvSpPr/>
          <p:nvPr/>
        </p:nvSpPr>
        <p:spPr>
          <a:xfrm>
            <a:off x="611280" y="4581360"/>
            <a:ext cx="5545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Text Box 10"/>
          <p:cNvSpPr/>
          <p:nvPr/>
        </p:nvSpPr>
        <p:spPr>
          <a:xfrm>
            <a:off x="3759120" y="5529240"/>
            <a:ext cx="4484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Text Box 12"/>
          <p:cNvSpPr/>
          <p:nvPr/>
        </p:nvSpPr>
        <p:spPr>
          <a:xfrm>
            <a:off x="539640" y="4221000"/>
            <a:ext cx="860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8459640" cy="14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Arial"/>
                <a:ea typeface="Arial"/>
              </a:rPr>
              <a:t>Менингоцеле и мијеломенингоцел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Rectangle 5"/>
          <p:cNvSpPr/>
          <p:nvPr/>
        </p:nvSpPr>
        <p:spPr>
          <a:xfrm>
            <a:off x="214200" y="1785960"/>
            <a:ext cx="61437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ајчешће се налазе у сакрококцигеалном пределу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ницијална терапија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терилне компресе натопљене загрејаним физиолошким раствором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тављање у адекватан положај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антибиотици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транспорт у одговарајућу неурохируршку установу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5" name="Picture 8" descr="mc6"/>
          <p:cNvPicPr/>
          <p:nvPr/>
        </p:nvPicPr>
        <p:blipFill>
          <a:blip r:embed="rId1"/>
          <a:stretch/>
        </p:blipFill>
        <p:spPr>
          <a:xfrm>
            <a:off x="5796000" y="1484280"/>
            <a:ext cx="33480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Box 3"/>
          <p:cNvSpPr/>
          <p:nvPr/>
        </p:nvSpPr>
        <p:spPr>
          <a:xfrm>
            <a:off x="928800" y="21420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ИНТРАУТЕРИН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РАСТ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РАЗВОЈ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Rectangle 4"/>
          <p:cNvSpPr/>
          <p:nvPr/>
        </p:nvSpPr>
        <p:spPr>
          <a:xfrm>
            <a:off x="395280" y="3573360"/>
            <a:ext cx="3816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214200" y="1071720"/>
            <a:ext cx="892980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Нормал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трудноћ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тра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10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лунарних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месц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, 40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постконцепцијских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ил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г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ил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280±11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да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Calibri"/>
                <a:ea typeface="Arial"/>
              </a:rPr>
              <a:t>Ембрионални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Calibri"/>
                <a:ea typeface="Arial"/>
              </a:rPr>
              <a:t>период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обухват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b0f0"/>
                </a:solidFill>
                <a:uFillTx/>
                <a:latin typeface="Calibri"/>
                <a:ea typeface="Arial"/>
              </a:rPr>
              <a:t>триместар</a:t>
            </a:r>
            <a:r>
              <a:rPr b="0" lang="sr-Latn-CS" sz="2800" spc="-1" strike="noStrike" u="sng">
                <a:solidFill>
                  <a:srgbClr val="00b0f0"/>
                </a:solidFill>
                <a:uFillTx/>
                <a:latin typeface="Calibri"/>
                <a:ea typeface="Arial"/>
              </a:rPr>
              <a:t> </a:t>
            </a:r>
            <a:r>
              <a:rPr b="0" lang="sr-RS" sz="2800" spc="-1" strike="noStrike" u="sng">
                <a:solidFill>
                  <a:srgbClr val="00b0f0"/>
                </a:solidFill>
                <a:uFillTx/>
                <a:latin typeface="Calibri"/>
                <a:ea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8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г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ил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10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постменструалних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недеља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  <a:ea typeface="Arial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1" lang="sr-CS" sz="2800" spc="-1" strike="noStrike">
                <a:solidFill>
                  <a:srgbClr val="ff0000"/>
                </a:solidFill>
                <a:latin typeface="Calibri"/>
                <a:ea typeface="Arial"/>
              </a:rPr>
              <a:t>Фетални</a:t>
            </a:r>
            <a:r>
              <a:rPr b="1" lang="sr-Latn-CS" sz="28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Calibri"/>
                <a:ea typeface="Arial"/>
              </a:rPr>
              <a:t>период</a:t>
            </a:r>
            <a:r>
              <a:rPr b="1" lang="sr-Latn-CS" sz="28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обухват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0f0"/>
                </a:solidFill>
                <a:uFillTx/>
                <a:latin typeface="Calibri"/>
                <a:ea typeface="Arial"/>
              </a:rPr>
              <a:t>2.</a:t>
            </a:r>
            <a:r>
              <a:rPr b="0" lang="sr-Latn-CS" sz="2800" spc="-1" strike="noStrike" u="sng">
                <a:solidFill>
                  <a:srgbClr val="00b0f0"/>
                </a:solidFill>
                <a:uFillTx/>
                <a:latin typeface="Calibri"/>
                <a:ea typeface="Arial"/>
              </a:rPr>
              <a:t> </a:t>
            </a:r>
            <a:r>
              <a:rPr b="0" lang="sr-CS" sz="2800" spc="-1" strike="noStrike" u="sng">
                <a:solidFill>
                  <a:srgbClr val="00b0f0"/>
                </a:solidFill>
                <a:uFillTx/>
                <a:latin typeface="Calibri"/>
                <a:ea typeface="Arial"/>
              </a:rPr>
              <a:t>триместар</a:t>
            </a:r>
            <a:r>
              <a:rPr b="0" lang="en-US" sz="2800" spc="-1" strike="noStrike" u="sng">
                <a:solidFill>
                  <a:srgbClr val="00b0f0"/>
                </a:solidFill>
                <a:uFillTx/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значајниј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раст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дужину)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0f0"/>
                </a:solidFill>
                <a:uFillTx/>
                <a:latin typeface="Calibri"/>
                <a:ea typeface="Arial"/>
              </a:rPr>
              <a:t>3.</a:t>
            </a:r>
            <a:r>
              <a:rPr b="0" lang="sr-Latn-CS" sz="2800" spc="-1" strike="noStrike" u="sng">
                <a:solidFill>
                  <a:srgbClr val="00b0f0"/>
                </a:solidFill>
                <a:uFillTx/>
                <a:latin typeface="Calibri"/>
                <a:ea typeface="Arial"/>
              </a:rPr>
              <a:t> </a:t>
            </a:r>
            <a:r>
              <a:rPr b="0" lang="sr-CS" sz="2800" spc="-1" strike="noStrike" u="sng">
                <a:solidFill>
                  <a:srgbClr val="00b0f0"/>
                </a:solidFill>
                <a:uFillTx/>
                <a:latin typeface="Calibri"/>
                <a:ea typeface="Arial"/>
              </a:rPr>
              <a:t>Триместар</a:t>
            </a:r>
            <a:r>
              <a:rPr b="0" lang="sr-RS" sz="2800" spc="-1" strike="noStrike" u="sng">
                <a:solidFill>
                  <a:srgbClr val="00b0f0"/>
                </a:solidFill>
                <a:uFillTx/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значајниј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порас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ТМ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9" name="Picture 5" descr="Illustration examples of the first, second and third trimesters of pregnancy."/>
          <p:cNvPicPr/>
          <p:nvPr/>
        </p:nvPicPr>
        <p:blipFill>
          <a:blip r:embed="rId1"/>
          <a:stretch/>
        </p:blipFill>
        <p:spPr>
          <a:xfrm>
            <a:off x="4714920" y="3857760"/>
            <a:ext cx="42480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Сакрококцигеални 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терат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323640" y="1125000"/>
            <a:ext cx="860580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едстављају велике, неравне, туморе који захватају сакрални и кокцигеални део леђа, деформишу аногенитални предео и могу да компромитују раст и развој доњих ектремитета</a:t>
            </a:r>
            <a:r>
              <a:rPr b="0" lang="sr-CS" sz="32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8" name="Picture 2" descr=""/>
          <p:cNvPicPr/>
          <p:nvPr/>
        </p:nvPicPr>
        <p:blipFill>
          <a:blip r:embed="rId1"/>
          <a:stretch/>
        </p:blipFill>
        <p:spPr>
          <a:xfrm>
            <a:off x="3643200" y="3833640"/>
            <a:ext cx="46436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ЕКСТРЕМИТЕ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285480" y="1600200"/>
            <a:ext cx="8072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Захтевају пажљив преглед због присуства минор малформација: малпозиција прстију, поли/синдактилија, аномалије стопал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еквинус; </a:t>
            </a: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варус или валгус-”Чарли Чаплин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реглед кукова: смањена абдукција, неједнака дужина ногу,већи бр. набора на оштећеној страни и спуштено колено указују на конг. дисплазију ку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Arial"/>
              </a:rPr>
              <a:t>Barl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Оrtolan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1" name="Picture 7" descr="http://www.tk.de/rochelexikon/pics/a20048.000-1_big.gif"/>
          <p:cNvPicPr/>
          <p:nvPr/>
        </p:nvPicPr>
        <p:blipFill>
          <a:blip r:embed="rId1"/>
          <a:stretch/>
        </p:blipFill>
        <p:spPr>
          <a:xfrm>
            <a:off x="6215040" y="4857840"/>
            <a:ext cx="27860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НЕУРОЛОШКИ ПРЕГЛЕД НОВОРОЂЕНЧЕТ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цењује с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стање свести; 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удно,сомнолентно или апатично,иритабилно,коматозн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посматра се  положај и покрет- спонтана и провоцирана активно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неуромишићни тонус (активни и пасивн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испитују се рефлекси (примарни и тетивни) 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. стање чу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214200" y="142920"/>
            <a:ext cx="8715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9720" indent="-57132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ПРИМИТИВНИ или ПРИМАРНИ РЕФЛЕКС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39720" indent="-57132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39720" indent="-57132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Рефлекс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сисања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и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гутања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39720" indent="-5713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успостављају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још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од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10.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г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н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39720" indent="-5713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до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34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г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н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нису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координисани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39720" indent="-5713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одсуство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после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рођењ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означав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теже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оштећење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ЦНС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39720" indent="-57132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Рефлекс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хватања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на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горњим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екстремитетима: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39720" indent="-5713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једнострано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ослабљен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или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одсутан-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знак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парезе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/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парализе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доње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гране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плексус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брахијалис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39720" indent="-5713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Функционално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хватање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се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јављ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с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8-10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мес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39720" indent="-571320">
              <a:lnSpc>
                <a:spcPct val="14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Calibri"/>
                <a:ea typeface="Arial"/>
              </a:rPr>
              <a:t>МОРО</a:t>
            </a:r>
            <a:r>
              <a:rPr b="1" lang="en-GB" sz="20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1" lang="sr-CS" sz="2000" spc="-1" strike="noStrike">
                <a:solidFill>
                  <a:srgbClr val="ff0000"/>
                </a:solidFill>
                <a:latin typeface="Calibri"/>
                <a:ea typeface="Arial"/>
              </a:rPr>
              <a:t>РЕФЛЕК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39720" indent="-571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-    Непотпун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или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одсутан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значи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тежу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депресију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ЦНС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39720" indent="-57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Асиметричан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виђ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се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код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лезије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плексус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брахијалис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39720" indent="-57132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39720" indent="-57132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39720" indent="-57132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39720" indent="-57132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39720" indent="-57132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TextBox 7"/>
          <p:cNvSpPr/>
          <p:nvPr/>
        </p:nvSpPr>
        <p:spPr>
          <a:xfrm>
            <a:off x="6804000" y="4437000"/>
            <a:ext cx="66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Трајањ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примарни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рефлек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357120" y="1571760"/>
            <a:ext cx="83296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ороов рефлекс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губи између 3. и 6. месец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ефлекс Бабинског перзистир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о 12. месец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ефлекс хватања до 3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.-4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. месец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симетричн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оничн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фл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врат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4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6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есец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ефлекс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ескакњ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утоматског хода перзистир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рај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2.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есец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сле 6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-ог месеца јављају се с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унд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н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фл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с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зв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порн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ефлекс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ј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њуј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имар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 txBox="1"/>
          <p:nvPr/>
        </p:nvSpPr>
        <p:spPr>
          <a:xfrm>
            <a:off x="179280" y="1213920"/>
            <a:ext cx="8964720" cy="610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д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 недеље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гледа у мајку када му се она обраћ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а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 месеца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гуче и осмехује се мајц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Шаке су већином затворене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прве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 недеље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живота, а затим се све више отварај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а око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 месеца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дете узима понуђени предм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6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месец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ед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ез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слонц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тој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з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идржавањ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7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мес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ц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а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 месеци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спаја слогове, маше, игра се скривалице, пуз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ко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10.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есец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јављ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инцетни хва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месец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тој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амостал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12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месец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чињ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ход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ам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зговар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ам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ат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гр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TextBox 2"/>
          <p:cNvSpPr/>
          <p:nvPr/>
        </p:nvSpPr>
        <p:spPr>
          <a:xfrm>
            <a:off x="142920" y="785880"/>
            <a:ext cx="90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ОБРАЗАЦ НОРМАЛНОГ ПСИХОМОТОРНОГ РАЗВОЈА у 1-ој год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1"/>
          <p:cNvSpPr/>
          <p:nvPr/>
        </p:nvSpPr>
        <p:spPr>
          <a:xfrm>
            <a:off x="684360" y="1413000"/>
            <a:ext cx="8280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Донешено</a:t>
            </a:r>
            <a:r>
              <a:rPr b="1" lang="sr-Latn-CS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= рође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термин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Arial"/>
              </a:rPr>
              <a:t>38.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г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Недонешено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= рођено пре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Arial"/>
              </a:rPr>
              <a:t>37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г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ил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Arial"/>
              </a:rPr>
              <a:t> 259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да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Пренеше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= рође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Arial"/>
              </a:rPr>
              <a:t> &gt;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Arial"/>
              </a:rPr>
              <a:t>42.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г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н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ил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294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да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почев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о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прво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да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последње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менструалног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период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TextBox 2"/>
          <p:cNvSpPr/>
          <p:nvPr/>
        </p:nvSpPr>
        <p:spPr>
          <a:xfrm>
            <a:off x="1476360" y="549360"/>
            <a:ext cx="748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17375e"/>
                </a:solidFill>
                <a:latin typeface="Arial"/>
                <a:ea typeface="Arial"/>
              </a:rPr>
              <a:t>НОВОРОЂЕНЧЕ</a:t>
            </a:r>
            <a:r>
              <a:rPr b="1" lang="sr-Latn-CS" sz="4000" spc="-1" strike="noStrike">
                <a:solidFill>
                  <a:srgbClr val="17375e"/>
                </a:solidFill>
                <a:latin typeface="Arial"/>
                <a:ea typeface="Arial"/>
              </a:rPr>
              <a:t>=28 </a:t>
            </a:r>
            <a:r>
              <a:rPr b="1" lang="sr-CS" sz="4000" spc="-1" strike="noStrike">
                <a:solidFill>
                  <a:srgbClr val="17375e"/>
                </a:solidFill>
                <a:latin typeface="Arial"/>
                <a:ea typeface="Arial"/>
              </a:rPr>
              <a:t>дан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2"/>
          <p:cNvSpPr/>
          <p:nvPr/>
        </p:nvSpPr>
        <p:spPr>
          <a:xfrm>
            <a:off x="428760" y="1428840"/>
            <a:ext cx="4572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лежај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орођа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Б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“babyterm”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ихватањ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оворођенчет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Ц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грејач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ветло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Д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уређај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укциј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ераче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егативног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итис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онитор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рчаног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рад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атураци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хемоглоби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2 (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улсн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ксиметар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TextBox 3"/>
          <p:cNvSpPr/>
          <p:nvPr/>
        </p:nvSpPr>
        <p:spPr>
          <a:xfrm>
            <a:off x="0" y="404640"/>
            <a:ext cx="871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 Narrow"/>
              </a:rPr>
              <a:t>ПОРОЂАЈНА</a:t>
            </a:r>
            <a:r>
              <a:rPr b="0" lang="sr-Latn-CS" sz="4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Arial Narrow"/>
              </a:rPr>
              <a:t>САЛ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Picture 8" descr="http://htmlimg2.scribdassets.com/2g5v4flow01l7azn/images/7-6f15ff8005.jpg"/>
          <p:cNvPicPr/>
          <p:nvPr/>
        </p:nvPicPr>
        <p:blipFill>
          <a:blip r:embed="rId1"/>
          <a:srcRect l="32483" t="61908" r="0" b="3886"/>
          <a:stretch/>
        </p:blipFill>
        <p:spPr>
          <a:xfrm>
            <a:off x="4929120" y="1773360"/>
            <a:ext cx="421488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1"/>
          <p:cNvSpPr/>
          <p:nvPr/>
        </p:nvSpPr>
        <p:spPr>
          <a:xfrm>
            <a:off x="250920" y="2428920"/>
            <a:ext cx="5321160" cy="41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Прв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пресецањ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пупчаник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врш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непосредн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изнад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мест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клемовањ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на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око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20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цм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од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абдомена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TextBox 2"/>
          <p:cNvSpPr/>
          <p:nvPr/>
        </p:nvSpPr>
        <p:spPr>
          <a:xfrm>
            <a:off x="539640" y="476280"/>
            <a:ext cx="73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Прво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пресецање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пупчаник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250920" y="2205000"/>
            <a:ext cx="8893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 Black"/>
              </a:rPr>
              <a:t>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7"/>
          <p:cNvSpPr/>
          <p:nvPr/>
        </p:nvSpPr>
        <p:spPr>
          <a:xfrm>
            <a:off x="324000" y="1341360"/>
            <a:ext cx="731988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кон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мплетне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кспулзије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лода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естанка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улсација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упчаника,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упчаник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хватимо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ва</a:t>
            </a:r>
            <a:r>
              <a:rPr b="0" lang="sl-SI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еана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терилно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есечемо </a:t>
            </a:r>
            <a:r>
              <a:rPr b="0" lang="sr-CS" sz="2800" spc="-1" strike="noStrike">
                <a:solidFill>
                  <a:srgbClr val="ff0000"/>
                </a:solidFill>
                <a:latin typeface="Calibri"/>
              </a:rPr>
              <a:t>(60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ec)</a:t>
            </a:r>
            <a:r>
              <a:rPr b="0" lang="sr-CS" sz="2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9" name="Picture 11" descr="prekinitev popk"/>
          <p:cNvPicPr/>
          <p:nvPr/>
        </p:nvPicPr>
        <p:blipFill>
          <a:blip r:embed="rId1"/>
          <a:stretch/>
        </p:blipFill>
        <p:spPr>
          <a:xfrm>
            <a:off x="5256360" y="3143160"/>
            <a:ext cx="3887640" cy="3714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2"/>
          <p:cNvSpPr/>
          <p:nvPr/>
        </p:nvSpPr>
        <p:spPr>
          <a:xfrm>
            <a:off x="500040" y="476280"/>
            <a:ext cx="82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Друг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пресеца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пупчани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1000080" y="1500120"/>
            <a:ext cx="4357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Поставља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се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пластични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клип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на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око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2-3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цм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од абдоме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Претходн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потисн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крв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к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новорођенчету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Изврш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друго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пресецање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пупчаник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0,5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цм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испод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клипа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уколик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новорођенч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виталн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2" name="Picture 15" descr="oskrba popka"/>
          <p:cNvPicPr/>
          <p:nvPr/>
        </p:nvPicPr>
        <p:blipFill>
          <a:blip r:embed="rId1"/>
          <a:stretch/>
        </p:blipFill>
        <p:spPr>
          <a:xfrm>
            <a:off x="5256360" y="2565360"/>
            <a:ext cx="3887640" cy="3456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1"/>
          <p:cNvSpPr/>
          <p:nvPr/>
        </p:nvSpPr>
        <p:spPr>
          <a:xfrm>
            <a:off x="0" y="1714680"/>
            <a:ext cx="692928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Нормална </a:t>
            </a:r>
            <a:r>
              <a:rPr b="0" lang="sr-CS" sz="2400" spc="-1" strike="noStrike">
                <a:solidFill>
                  <a:srgbClr val="ff0000"/>
                </a:solidFill>
                <a:latin typeface="Tahoma"/>
              </a:rPr>
              <a:t>дужина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 око </a:t>
            </a:r>
            <a:r>
              <a:rPr b="0" lang="sr-CS" sz="2400" spc="-1" strike="noStrike">
                <a:solidFill>
                  <a:srgbClr val="ff0000"/>
                </a:solidFill>
                <a:latin typeface="Tahoma"/>
              </a:rPr>
              <a:t>50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m</a:t>
            </a:r>
            <a:r>
              <a:rPr b="0" lang="sr-CS" sz="2400" spc="-1" strike="noStrike">
                <a:solidFill>
                  <a:srgbClr val="ff0000"/>
                </a:solidFill>
                <a:latin typeface="Tahoma"/>
              </a:rPr>
              <a:t>.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→ → → → →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Нормална боја пупчаника  је одређен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плаво-црвеном нијансом крвних судова и светло-сивом бојом Вартонове пихтијасте масе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Сувише дуг пупчаник може да пролабир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Сувише кратак &lt;25 цм 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own sy?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ормално постоје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ве артериј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 једна умбиликална вен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исуство само једне пупчане артер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огуће аномалије УГТ-а ил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ВС-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след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еправилно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двезивањ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ог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астан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хематом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пупчаника     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→ → →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TextBox 2"/>
          <p:cNvSpPr/>
          <p:nvPr/>
        </p:nvSpPr>
        <p:spPr>
          <a:xfrm>
            <a:off x="785880" y="42876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арактеристик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ормалног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упчани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5" name="Picture 4" descr="IV"/>
          <p:cNvPicPr/>
          <p:nvPr/>
        </p:nvPicPr>
        <p:blipFill>
          <a:blip r:embed="rId1"/>
          <a:stretch/>
        </p:blipFill>
        <p:spPr>
          <a:xfrm>
            <a:off x="6429240" y="500040"/>
            <a:ext cx="2714760" cy="292896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4" descr="IV"/>
          <p:cNvPicPr/>
          <p:nvPr/>
        </p:nvPicPr>
        <p:blipFill>
          <a:blip r:embed="rId2"/>
          <a:stretch/>
        </p:blipFill>
        <p:spPr>
          <a:xfrm>
            <a:off x="6715080" y="4286160"/>
            <a:ext cx="228600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1"/>
          <p:cNvSpPr/>
          <p:nvPr/>
        </p:nvSpPr>
        <p:spPr>
          <a:xfrm>
            <a:off x="928800" y="1785960"/>
            <a:ext cx="80010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TextBox 2"/>
          <p:cNvSpPr/>
          <p:nvPr/>
        </p:nvSpPr>
        <p:spPr>
          <a:xfrm>
            <a:off x="714240" y="35712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Arial"/>
                <a:ea typeface="Arial"/>
              </a:rPr>
              <a:t>Аномалије пупчаник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TextBox 4"/>
          <p:cNvSpPr/>
          <p:nvPr/>
        </p:nvSpPr>
        <p:spPr>
          <a:xfrm>
            <a:off x="642960" y="1571760"/>
            <a:ext cx="6858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КОЖНИ ПУПА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АМНИОНСКИ  ПУПАК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ПУПЧАНА  КИЛ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Calibri"/>
                <a:ea typeface="Calibri"/>
              </a:rPr>
              <a:t>ОМФАЛОКЕЛА</a:t>
            </a:r>
            <a:r>
              <a:rPr b="0" lang="en-US" sz="3200" spc="-1" strike="noStrike">
                <a:solidFill>
                  <a:srgbClr val="00b0f0"/>
                </a:solidFill>
                <a:latin typeface="Calibri"/>
                <a:ea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*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  <a:ea typeface="Calibri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тражити додатне конгe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  <a:ea typeface="Calibri"/>
              </a:rPr>
              <a:t>нитал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аномалије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  <a:ea typeface="Calibri"/>
              </a:rPr>
              <a:t> !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ГАСТРОШИЗ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ПЕРЗИСТЕНТНИ ОМФАЛОЕНТЕРИЧНИ ДУКТУС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ФИСТУЛА  УРАХУС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8:11:05Z</dcterms:created>
  <dc:creator>Jasmina</dc:creator>
  <dc:description/>
  <dc:language>en-US</dc:language>
  <cp:lastModifiedBy>Windows User</cp:lastModifiedBy>
  <dcterms:modified xsi:type="dcterms:W3CDTF">2020-09-11T14:18:22Z</dcterms:modified>
  <cp:revision>852</cp:revision>
  <dc:subject/>
  <dc:title>NOVOROĐENČE</dc:title>
</cp:coreProperties>
</file>