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E440-20B3-4B94-84A7-34B43791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8E6E-7196-4E3B-AF13-475E839C3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ФЕКЦИЈ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ОВОРОЂЕН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2357280"/>
            <a:ext cx="834228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Calibri"/>
              </a:rPr>
              <a:t>Други по учесталости узрок смрти (после РДС)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мптоми слабо изражени, неспецифични, прикривени, (захваћено је више органских систе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абораторијске анализе мање поуз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зрелост иму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х и других антиинфламаторних реакција-фулминантан 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Честа резистенција узрочник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на антибиотик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егзистирањ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др.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680" y="57132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Р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н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r-CS" sz="3600" spc="-1" strike="noStrike" u="sng">
                <a:solidFill>
                  <a:srgbClr val="ff0000"/>
                </a:solidFill>
                <a:uFillTx/>
                <a:latin typeface="Arial"/>
              </a:rPr>
              <a:t>инфекциј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ptococu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ri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cito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occu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bs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ob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ff0000"/>
                </a:solidFill>
                <a:uFillTx/>
                <a:latin typeface="Arial"/>
              </a:rPr>
              <a:t>Касна инфекција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(</a:t>
            </a:r>
            <a:r>
              <a:rPr b="0" lang="sr-RS" sz="2800" spc="-1" strike="noStrike">
                <a:solidFill>
                  <a:srgbClr val="00b0f0"/>
                </a:solidFill>
                <a:latin typeface="Arial"/>
              </a:rPr>
              <a:t>у хоспиталним условима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14360"/>
            <a:ext cx="74008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phylococcus coagulase n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phylococcus aur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mo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netobacter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ebsiella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ултирезистентни соје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Касна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инфекција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настала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кућној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среди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епток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213920"/>
            <a:ext cx="8199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Рани</a:t>
            </a: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зна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мење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летаргија или 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емирено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тер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р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не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хипне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пирато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т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хикардиј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ли брадикар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зомотор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хр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аћ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аре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утица или марморизована кожа, кож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320" y="213840"/>
            <a:ext cx="8628120" cy="58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сни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наци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еспираторна дисфункција  (РДС)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ја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ч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пне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неумон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Циркулаторна дисфункција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на васкуларна пермеабилност, редистрибуција интраваскуларног волумена течности, системска хипотензија, срчана инсуфицијенција, септични шок (топли или хлад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Абдоминална дисфункција 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стин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струк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дисфункција 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еморагијск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дијатеза (ДИК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дуже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бо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тех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енална дисфункц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леред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ЦН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ска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ч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бач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п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нтан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енцефалопатија или периферна неур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bebina noga"/>
          <p:cNvPicPr/>
          <p:nvPr/>
        </p:nvPicPr>
        <p:blipFill>
          <a:blip r:embed="rId1"/>
          <a:stretch/>
        </p:blipFill>
        <p:spPr>
          <a:xfrm>
            <a:off x="6500880" y="142920"/>
            <a:ext cx="2428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РОШИРЕНА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ЛИСТА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ЗН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6760" y="1999800"/>
            <a:ext cx="857268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Фебрил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gt;38,5C°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&gt;37,8C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у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хипотерм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lt;36,0°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хикардиј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&gt;180/min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хипне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gt;60/min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ипервентила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pCO2 &lt;4,25kPa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Calibri"/>
              </a:rPr>
              <a:t>Хипоксија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2&lt;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mH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SaO2&lt;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од терминске нов.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aO2&lt;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8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од превремено рођене 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гнификант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ед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зитив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алан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ч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gt;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 пораст креатинина за 0,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g/dl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Хипергликем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&gt;120mg/d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л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6,6 mmol/l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илирубинемија, порас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T,ALT,LDH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алкалне фосфатазе, хипоалбум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ЛАБОРАТОРИЈСК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ЗН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1928520"/>
            <a:ext cx="87868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еукоцитоза или леукопенија; Неутрофилија или неутропенија (&lt;15000) која је чешћа од неутрофилије и представља лош прогностички зна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ећан однос незрелих према укупном броју неутрофила (&gt;0,2 или 0,16 у првих 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ив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омбоцитопенија, продужен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PTT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, уз повишен ни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D-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мера, снижен ниво фибриногена и протеина-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н ни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RP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н ни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6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зв. пресепсин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NF-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л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таболичка ацидоз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(лактати &gt;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mmol/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тг (плућа, абдомена, костиј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АКТЕРИОЛОШК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емокул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реброспиналне течн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икв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ринокул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рахеал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астричн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спи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прокултур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ли ректални б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кре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чију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же и назофарин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новиј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тро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олош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гле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врши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Calibri"/>
              </a:rPr>
              <a:t>48-7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чет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говарајућ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т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циљу провере терапијског одговор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мпиријск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нтибиотск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а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пицил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иногликоз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ључ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цефалоспорин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III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енер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динир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умест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аминогликоз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ла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матенцефал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аријер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840" y="1999800"/>
            <a:ext cx="89298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ас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нфекциј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тече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ућној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редин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мпицил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+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миногликоз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ас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инфекциј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тече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болничкој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реди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фалоспор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енер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комиц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ницилина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зистент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ници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мпиријск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тск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поче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мах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зимањ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зора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!!!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бијањ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зулт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гр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поче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иља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тс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ужин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нтибиотск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4240" y="16156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Антибиот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о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гра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+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3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п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ерили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хемокулту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менингити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о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3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ерили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лик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остеомијелити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артрити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3-4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де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АКТЕРИЈСК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нфламаторни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одговор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кроорганиз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азва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инвазију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нормално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стерилних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ткива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маћ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натал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28 </a:t>
            </a:r>
            <a:r>
              <a:rPr b="0" lang="sr-CS" sz="2800" spc="-1" strike="noStrike">
                <a:solidFill>
                  <a:srgbClr val="00b0f0"/>
                </a:solidFill>
                <a:latin typeface="Arial"/>
              </a:rPr>
              <a:t>дана</a:t>
            </a:r>
            <a:r>
              <a:rPr b="0" lang="sr-Latn-C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тпор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928440"/>
            <a:ext cx="513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кс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еноелектролит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орегу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фуз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С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к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отропна и вазопресорна 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модулаторна терап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и.в. имуноглобулини, антиоксиданси, кортикостероиди, пентоксифилин, ТС гранулоцита и с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ангвинотрансфу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hoto-0282"/>
          <p:cNvPicPr/>
          <p:nvPr/>
        </p:nvPicPr>
        <p:blipFill>
          <a:blip r:embed="rId1"/>
          <a:stretch/>
        </p:blipFill>
        <p:spPr>
          <a:xfrm>
            <a:off x="5364000" y="2478240"/>
            <a:ext cx="3637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АКТЕРИЈС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1320" y="2000160"/>
            <a:ext cx="8699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ЧЕШЋИ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ПРЕВРЕМЕНО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РОЂЕНЕ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Учесталост</a:t>
            </a:r>
            <a:r>
              <a:rPr b="0" lang="sr-Latn-C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0,1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0,4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0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родј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,36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,5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0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родј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рам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, Proteus, Pseudomonas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bsiell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рам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eptococcus BHSB , Saphylococcus aureu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ria monocitoge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чни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гити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&gt;3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с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ц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офил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луен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&lt;1%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неумок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%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нингок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изузет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новорођеног дет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МЕНИНГИТИС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АЗВАН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H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1928520"/>
            <a:ext cx="8556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b0f0"/>
                </a:solidFill>
                <a:latin typeface="Calibri"/>
                <a:ea typeface="Calibri"/>
              </a:rPr>
              <a:t>РАНИ</a:t>
            </a:r>
            <a:r>
              <a:rPr b="0" lang="sr-Latn-CS" sz="28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Calibri"/>
                <a:ea typeface="Calibri"/>
              </a:rPr>
              <a:t>ОБЛИК</a:t>
            </a:r>
            <a:r>
              <a:rPr b="0" lang="sr-Latn-CS" sz="28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х 24-72с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8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амнестич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а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пликациј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ођа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инирају симптоми 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нац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пс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Д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о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улминант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смртни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исход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Calibri"/>
              </a:rPr>
              <a:t>се јавља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50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-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b0f0"/>
                </a:solidFill>
                <a:latin typeface="Calibri"/>
                <a:ea typeface="Calibri"/>
              </a:rPr>
              <a:t>КАСНИ</a:t>
            </a:r>
            <a:r>
              <a:rPr b="0" lang="sr-Latn-CS" sz="28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b0f0"/>
                </a:solidFill>
                <a:latin typeface="Calibri"/>
                <a:ea typeface="Calibri"/>
              </a:rPr>
              <a:t>ОБЛИК</a:t>
            </a:r>
            <a:r>
              <a:rPr b="0" lang="sr-Latn-CS" sz="28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ав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12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8-1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дељ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инирају неуролошки зн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нифес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ла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о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гресив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смртност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14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-20%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гуће компл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g.medscapestatic.com/pi/meds/ckb/15/15515.jpg"/>
          <p:cNvPicPr/>
          <p:nvPr/>
        </p:nvPicPr>
        <p:blipFill>
          <a:blip r:embed="rId1"/>
          <a:stretch/>
        </p:blipFill>
        <p:spPr>
          <a:xfrm>
            <a:off x="857160" y="2786040"/>
            <a:ext cx="2500560" cy="2905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143240" y="2214720"/>
            <a:ext cx="407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нтрикул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Церебрални ед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дроцефал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бдурални емпиј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штећење сл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Г КРИТЕРИЈУМИ ЗА МЕНИНГ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1714320"/>
            <a:ext cx="87156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олација и идентификација бактерија и њихових антигена у ликв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&gt;30 неутрофил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мм³ ликвора (уколико је траумат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.П. однос Ер и Ле &gt; 500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НН са високим ризиком, распон полиморфонуклеарних Ле од 1 до 31 (Полиморфонуклеарни Ле чине најмање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33,3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 укупног бр. 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Протеинорахиј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&gt; 2г/л код терминског ; &gt; 3,7г/л код претерминског НН; </a:t>
            </a:r>
            <a:r>
              <a:rPr b="0" lang="sr-CS" sz="2400" spc="-1" strike="noStrike">
                <a:solidFill>
                  <a:srgbClr val="00b0f0"/>
                </a:solidFill>
                <a:latin typeface="Arial"/>
              </a:rPr>
              <a:t>Гликорах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&lt;50% од вредности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ишен ниво цитокин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F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ф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6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1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857160"/>
            <a:ext cx="8540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0000"/>
                </a:solidFill>
                <a:latin typeface="Arial"/>
              </a:rPr>
              <a:t>Нови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ff0000"/>
                </a:solidFill>
                <a:latin typeface="Arial"/>
              </a:rPr>
              <a:t>термин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СИ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78596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ламатор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ламатор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инфек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ген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кот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нкреат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КРИТЕРИЈУМИ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ЗА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СИРС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° &gt;38C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&lt;36C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хикард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Cp &gt; 2 SD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хипне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R&gt; 2 SD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вентил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a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&lt;4,25 kP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цит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пен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&lt;5000/ml)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рет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в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&gt;10% 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незрелих фор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тогенези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генитал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ч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раутери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еринатал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ч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посред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ођ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озокомијал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ч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спитализ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орођенче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1356840"/>
            <a:ext cx="854064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85010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Локализоване: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неумониа, уринар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строентер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Генерализова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п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вије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-3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с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вије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риод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28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ЦИДЕ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686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кте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-10/10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пс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-8/10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0,3-0,4/10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неумони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,3/10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5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ханичк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нти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ринар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,1-1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зокомијал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0,5-1,7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ељењ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1213920"/>
            <a:ext cx="85406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ИЗИК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ЗВОЈ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2285640"/>
            <a:ext cx="8540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 u="sng">
                <a:solidFill>
                  <a:srgbClr val="00b0f0"/>
                </a:solidFill>
                <a:uFillTx/>
                <a:latin typeface="Arial"/>
              </a:rPr>
              <a:t>Везани</a:t>
            </a:r>
            <a:r>
              <a:rPr b="0" lang="sr-Latn-CS" sz="24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b0f0"/>
                </a:solidFill>
                <a:uFillTx/>
                <a:latin typeface="Arial"/>
              </a:rPr>
              <a:t>за</a:t>
            </a:r>
            <a:r>
              <a:rPr b="0" lang="sr-Latn-CS" sz="24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b0f0"/>
                </a:solidFill>
                <a:uFillTx/>
                <a:latin typeface="Arial"/>
              </a:rPr>
              <a:t>мајку</a:t>
            </a:r>
            <a:r>
              <a:rPr b="0" lang="sr-Latn-CS" sz="2400" spc="-1" strike="noStrike" u="sng">
                <a:solidFill>
                  <a:srgbClr val="00b0f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ходна обољења мајке (дијабетес, епилепсија, астма, срчана или бубрежна обољења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нутри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ж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оциј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ту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јке, пу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туе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нос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ј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он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ептоко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мптомат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пренаталне неге, слабија нега зуба и периденталне боле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428760" y="1143000"/>
            <a:ext cx="807228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b0f0"/>
                </a:solidFill>
                <a:uFillTx/>
                <a:latin typeface="Arial"/>
              </a:rPr>
              <a:t>перипартални</a:t>
            </a:r>
            <a:r>
              <a:rPr b="0" lang="en-US" sz="32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3200" spc="-1" strike="noStrike" u="sng">
                <a:solidFill>
                  <a:srgbClr val="00b0f0"/>
                </a:solidFill>
                <a:uFillTx/>
                <a:latin typeface="Arial"/>
              </a:rPr>
              <a:t>ризико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овољ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че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ок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фек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ј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агин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рвика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рина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с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фек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ј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п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мпера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оку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па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упту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лодов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оја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у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1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матурите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М при рођ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рођајне пов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ринат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сфик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ално завршен порођај (ваккум, форцеп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600" spc="-1" strike="noStrike" u="sng">
                <a:solidFill>
                  <a:srgbClr val="00b0f0"/>
                </a:solidFill>
                <a:uFillTx/>
                <a:latin typeface="Arial"/>
              </a:rPr>
              <a:t>Везани</a:t>
            </a:r>
            <a:r>
              <a:rPr b="0" lang="sr-Latn-CS" sz="36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3600" spc="-1" strike="noStrike" u="sng">
                <a:solidFill>
                  <a:srgbClr val="00b0f0"/>
                </a:solidFill>
                <a:uFillTx/>
                <a:latin typeface="Arial"/>
              </a:rPr>
              <a:t>за</a:t>
            </a:r>
            <a:r>
              <a:rPr b="0" lang="sr-Latn-CS" sz="3600" spc="-1" strike="noStrike" u="sng">
                <a:solidFill>
                  <a:srgbClr val="00b0f0"/>
                </a:solidFill>
                <a:uFillTx/>
                <a:latin typeface="Arial"/>
              </a:rPr>
              <a:t> </a:t>
            </a:r>
            <a:r>
              <a:rPr b="0" lang="sr-CS" sz="3600" spc="-1" strike="noStrike" u="sng">
                <a:solidFill>
                  <a:srgbClr val="00b0f0"/>
                </a:solidFill>
                <a:uFillTx/>
                <a:latin typeface="Arial"/>
              </a:rPr>
              <a:t>новорођен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ш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ре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болич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лактоз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об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з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п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е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вожђа, примена кортикостеро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томски дефекти (гастрошиза, мијеломенингокела, В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есте инванзивне процедуре, механичка вентилација, и.в. катетри, пролонгирана антибиотска или парентерална исхрана, неадкватна нега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20-09-30T16:56:07Z</dcterms:modified>
  <cp:revision>135</cp:revision>
  <dc:subject/>
  <dc:title>Slide 1</dc:title>
</cp:coreProperties>
</file>