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DD07-2703-4ADD-998F-E5CF409F5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6AB1-3180-454B-B1C6-AD5A1719F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480" y="10616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АНИМАЦИЈA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 ТРАНСПОР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ВОРОЂЕНОГ ДЕ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Win7\Desktop\beba.jpg"/>
          <p:cNvPicPr/>
          <p:nvPr/>
        </p:nvPicPr>
        <p:blipFill>
          <a:blip r:embed="rId1"/>
          <a:stretch/>
        </p:blipFill>
        <p:spPr>
          <a:xfrm>
            <a:off x="2357280" y="2357280"/>
            <a:ext cx="4643640" cy="3032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1009080" y="321480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21% О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 flipH="1">
            <a:off x="6857280" y="292896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оо%О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4360680" y="521496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2590560" y="621504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ф. др Александра Симо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 piece (Neopuff)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2428560"/>
            <a:ext cx="45007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спираторна линија и “ребрасто” црево које води до пациј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лвул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трол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ИП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лвул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трол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ЕП-а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в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хтев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вор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асо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Neopuff"/>
          <p:cNvPicPr/>
          <p:nvPr/>
        </p:nvPicPr>
        <p:blipFill>
          <a:blip r:embed="rId1"/>
          <a:stretch/>
        </p:blipFill>
        <p:spPr>
          <a:xfrm>
            <a:off x="5286240" y="3929040"/>
            <a:ext cx="3386160" cy="27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6" descr="Neopuff1"/>
          <p:cNvPicPr/>
          <p:nvPr/>
        </p:nvPicPr>
        <p:blipFill>
          <a:blip r:embed="rId2"/>
          <a:stretch/>
        </p:blipFill>
        <p:spPr>
          <a:xfrm>
            <a:off x="5572080" y="2143080"/>
            <a:ext cx="1351080" cy="14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Picture 7" descr="Neopuff2"/>
          <p:cNvPicPr/>
          <p:nvPr/>
        </p:nvPicPr>
        <p:blipFill>
          <a:blip r:embed="rId3"/>
          <a:stretch/>
        </p:blipFill>
        <p:spPr>
          <a:xfrm>
            <a:off x="7358040" y="2143080"/>
            <a:ext cx="1351080" cy="14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Оро</a:t>
            </a: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назотрахеална</a:t>
            </a: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интубација</a:t>
            </a: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intubacija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000080" y="2714760"/>
            <a:ext cx="4446720" cy="344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Rectangle 4"/>
          <p:cNvSpPr/>
          <p:nvPr/>
        </p:nvSpPr>
        <p:spPr>
          <a:xfrm>
            <a:off x="5857920" y="2643120"/>
            <a:ext cx="328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Индик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Апсолут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ма спонтаних респирација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&lt; 60/мин. пос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0 сек. адекватне вентилације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ање агонално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саж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78588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Оро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азотрахеална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нтубација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14200" y="1785960"/>
            <a:ext cx="8929800" cy="48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Релатив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еконијалн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лодов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ода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требн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спирациј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ентилирање балон-маском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елотворно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ек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илверман скор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&gt;5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цидобазни ско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; АС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3/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aO2 &lt; 6,6 kPa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FiO2 &gt; 60%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екстремно незрело новорођенче с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g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лућ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DS &gt; 3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</a:rPr>
              <a:t>Трахеални</a:t>
            </a:r>
            <a:r>
              <a:rPr b="0" lang="sl-SI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</a:rPr>
              <a:t>тубуси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(величина зависи од ГС и ТМ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2,5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3,5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ужењ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алончић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ротрахеалн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интубациј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p to lip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=  6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цм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ежин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:   МАСАЖА СР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5480" y="1785960"/>
            <a:ext cx="871524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70c0"/>
                </a:solidFill>
                <a:uFillTx/>
                <a:latin typeface="Arial"/>
              </a:rPr>
              <a:t>Индикациј</a:t>
            </a:r>
            <a:r>
              <a:rPr b="0" lang="sr-Latn-CS" sz="2400" spc="-1" strike="noStrike" u="sng">
                <a:solidFill>
                  <a:srgbClr val="0070c0"/>
                </a:solidFill>
                <a:uFillTx/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сле 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&gt;30 </a:t>
            </a:r>
            <a:r>
              <a:rPr b="0" lang="sr-CS" sz="2600" spc="-1" strike="noStrike">
                <a:solidFill>
                  <a:srgbClr val="ff0000"/>
                </a:solidFill>
                <a:latin typeface="Arial"/>
              </a:rPr>
              <a:t>сек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адекватне </a:t>
            </a:r>
            <a:r>
              <a:rPr b="0" lang="sr-CS" sz="2600" spc="-1" strike="noStrike">
                <a:solidFill>
                  <a:srgbClr val="ff0000"/>
                </a:solidFill>
                <a:latin typeface="Arial"/>
              </a:rPr>
              <a:t>вентилације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еко балон-маске, тубуса или ларингеалне маск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Ср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&lt; 60/</a:t>
            </a:r>
            <a:r>
              <a:rPr b="0" lang="sr-CS" sz="2600" spc="-1" strike="noStrike">
                <a:solidFill>
                  <a:srgbClr val="ff0000"/>
                </a:solidFill>
                <a:latin typeface="Arial"/>
              </a:rPr>
              <a:t>мин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асаж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рц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ештачко дисање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l-SI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3 :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15:2 арест кардијалног порекла;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100%</a:t>
            </a:r>
            <a:r>
              <a:rPr b="0" lang="sl-SI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0 сек.?</a:t>
            </a:r>
            <a:r>
              <a:rPr b="0" lang="sl-SI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Раније масирати Фр.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90/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ин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0 вентилација /мин=120 догађаја/мин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Arial"/>
              </a:rPr>
              <a:t>Нови ставови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асирати Фр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120/мин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за новорођ., 100/мин за децу током 1. године и касниј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сажа срца техником 2 прс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857160" y="2643120"/>
            <a:ext cx="6786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:  ЛЕКОВ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14308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дреналин и.в.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чан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куцај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&lt; 60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декватн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нтилациј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саж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лазмаекспандер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утно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већањ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лумен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ви: Изотоничн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ингер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акта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 албум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4,8% бикарбонат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 у пролонгираној реанимацији, код доказане метаболичке ацидо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тернативн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нск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ступ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раосалн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сту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b0f0"/>
                </a:solidFill>
                <a:latin typeface="Cambria"/>
              </a:rPr>
              <a:t>Проблеми који могу да ометају процену цијанозе новорођ. применом транскутане оксиметрије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едеми, танка кожа код превремено рођеног дете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хипотермија, хипотензиј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лоша перфузиј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периферна вазоконстрикција код шокног стањ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анем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ПЕЦИФИЧНОСТИ ОЖИВЉАВАЊА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ЕДОНОШЧЕ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4200" y="1857240"/>
            <a:ext cx="850104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удницам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у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наталн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укциј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нтез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рфактанта д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РТИКОСТЕРОИД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етаметаз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ксаметазо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филактичк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в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УРФАКТАНТ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арн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нимаци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доношчад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Т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80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Т интубацију код новорођенчади рођене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&lt; 29. г.н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ба искористити за давање прве дозе сурфактант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ниво препорука 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филактичк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в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рфактант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Arial"/>
              </a:rPr>
              <a:t>пре</a:t>
            </a:r>
            <a:r>
              <a:rPr b="0" lang="sl-SI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Arial"/>
              </a:rPr>
              <a:t>транспорта</a:t>
            </a:r>
            <a:r>
              <a:rPr b="0" lang="sl-SI" sz="2400" spc="-1" strike="noStrike">
                <a:solidFill>
                  <a:srgbClr val="0070c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казано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ход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љ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гућност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мпликација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оку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ранспорта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довољног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дзора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ентилаци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оступа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анимациј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екид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7859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гов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након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20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мину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ноги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едијатри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исле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живљав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ње,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ралн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хватљиви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кид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т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ишљење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авника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еоретика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тике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започињ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 укид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т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упц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лучив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ођајној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л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м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год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авље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ач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Г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компатибилн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ивотом,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дужав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ивот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ерес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ног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ид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ензивн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ровод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основна (палијативна)</a:t>
            </a:r>
            <a:r>
              <a:rPr b="0" lang="sl-SI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нега</a:t>
            </a:r>
            <a:r>
              <a:rPr b="0" lang="sl-SI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b0f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1214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РАНСПОРТ УГРОЖЕНОГ НОВОРОЂЕНЧЕ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b0f0"/>
                </a:solidFill>
                <a:latin typeface="Arial"/>
              </a:rPr>
              <a:t>ПРЕНАТАЛ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tero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”) или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</a:rPr>
              <a:t>ПОСТНАТАЛ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“</a:t>
            </a:r>
            <a:r>
              <a:rPr b="0" lang="sr-CS" sz="2000" spc="-1" strike="noStrike">
                <a:solidFill>
                  <a:srgbClr val="00b0f0"/>
                </a:solidFill>
                <a:latin typeface="Arial"/>
              </a:rPr>
              <a:t>транспорт од себ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”- оспособљени тимови у оквиру месне или регионалне службе хитне помоћи (мана –недовољна обученост за специјализован транспор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“</a:t>
            </a:r>
            <a:r>
              <a:rPr b="0" lang="sr-CS" sz="2000" spc="-1" strike="noStrike">
                <a:solidFill>
                  <a:srgbClr val="00b0f0"/>
                </a:solidFill>
                <a:latin typeface="Arial"/>
              </a:rPr>
              <a:t>транспорт ка себ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”- где тим иде по новорођенче и превози га; (мана-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зи из самог ОИН, што повећава потребу за особље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НСПОРТНА ЕКИПА: лекар, медицински техничар и воз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 добар транспорт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опходан је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транспортни инкубатор, извор О2 и транспорни респирато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86868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едвиђање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оживља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2571480"/>
            <a:ext cx="421488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о </a:t>
            </a:r>
            <a:r>
              <a:rPr b="1" lang="sl-SI" sz="2400" spc="-1" strike="noStrike">
                <a:solidFill>
                  <a:srgbClr val="0070c0"/>
                </a:solidFill>
                <a:latin typeface="Arial"/>
              </a:rPr>
              <a:t>10%</a:t>
            </a:r>
            <a:r>
              <a:rPr b="0" lang="sl-SI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ворођенчад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хтев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eки од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поступака оживљавањ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ко </a:t>
            </a:r>
            <a:r>
              <a:rPr b="1" lang="sr-CS" sz="2400" spc="-1" strike="noStrike">
                <a:solidFill>
                  <a:srgbClr val="0070c0"/>
                </a:solidFill>
                <a:latin typeface="Arial"/>
              </a:rPr>
              <a:t>1-2%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интубацију, масажу срца и/или медикаментозну реанимацију (</a:t>
            </a:r>
            <a:r>
              <a:rPr b="1" lang="sr-CS" sz="2400" spc="-1" strike="noStrike">
                <a:solidFill>
                  <a:srgbClr val="00b0f0"/>
                </a:solidFill>
                <a:latin typeface="Arial"/>
              </a:rPr>
              <a:t>0,1%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ако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ођај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ебал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суству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р једна особ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арн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ним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429080" y="2714760"/>
            <a:ext cx="471492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царски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рез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еопходно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рудноће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&lt; 35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ИУЗР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атолошка презентација,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вишеструка трудноћ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еконијалн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лодов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ода на  почетку порођај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вакуум екстракција или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форцепс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јако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рвављењ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олапс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упчаник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номалије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лода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према и збрињавање НН током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2852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0000"/>
                </a:solidFill>
                <a:uFillTx/>
                <a:latin typeface="Arial"/>
              </a:rPr>
              <a:t>1.Осигуравање виталних функција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спираторне сметње и/или хипоксију збринути пре транспор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убирати НН и  прикључити на транспортни респират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авити транскутане електроде за праћењ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р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греја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ре давања тачних резулта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зирање О2 током транспорта најчешће се врши према боји коже и видљивих слуз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езбедити венску лин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Е ТРАНСП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2560" y="1785960"/>
            <a:ext cx="85438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штити НН од расхлађивања (транспортни инкубатор..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иговати гликемију,ацидобазн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и електролит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татус...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CS" sz="2400" spc="-1" strike="noStrike" u="sng">
                <a:solidFill>
                  <a:srgbClr val="ff0000"/>
                </a:solidFill>
                <a:uFillTx/>
                <a:latin typeface="Arial"/>
              </a:rPr>
              <a:t>Збрињавање специфичних проблема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зависе од: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основног обољењ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гастрошиза, омфалокела...);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врсте транспорт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пре транспорта хеликоптером аспирирати желудачни садржај и пласирати отворену гастричну сонду)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предвиђене дужине транспорт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уколико НН нема хипогликемију, а превоз неће трајати дуже од 30 мин., и.в. линије није неопход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b0f0"/>
                </a:solidFill>
                <a:latin typeface="Arial"/>
              </a:rPr>
              <a:t>Однос према</a:t>
            </a: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b0f0"/>
                </a:solidFill>
                <a:latin typeface="Arial"/>
              </a:rPr>
              <a:t>родитељ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узима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те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опход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одитељ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авест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лоз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вод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уг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танов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одитељ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ач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дре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тано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ефо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ав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б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орм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дравстве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те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ите о ситуацији „овде и сада“, а не о перспективи новорођенч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ПРЕМА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14200" y="2071800"/>
            <a:ext cx="8501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анимацио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сеон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а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ра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т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ал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анимац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0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нти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нтилацио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с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00”, “0”, “1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рингоско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в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пату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Gi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еш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ал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оди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уб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ндотрахеал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убус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спирацио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тете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спи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сеон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о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пар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р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улсоксимета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ул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мбиликал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тете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прицев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г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еб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сте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равенс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и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30" descr="rea miza"/>
          <p:cNvPicPr/>
          <p:nvPr/>
        </p:nvPicPr>
        <p:blipFill>
          <a:blip r:embed="rId1"/>
          <a:stretch/>
        </p:blipFill>
        <p:spPr>
          <a:xfrm>
            <a:off x="5786280" y="928800"/>
            <a:ext cx="3357720" cy="578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Win7\Desktop\Šema algoritma reanimacije NN.jpg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571760"/>
            <a:ext cx="89298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1.Оцена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оворођенчета: </a:t>
            </a:r>
            <a:r>
              <a:rPr b="1" lang="sr-CS" sz="3200" spc="-1" strike="noStrike">
                <a:solidFill>
                  <a:srgbClr val="00b0f0"/>
                </a:solidFill>
                <a:latin typeface="Arial"/>
              </a:rPr>
              <a:t>30-60 сек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00040" y="2214720"/>
            <a:ext cx="8429760" cy="50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роцена квалитета плодове воде и гестацијске стар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Температура тела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&lt;36° C </a:t>
            </a:r>
            <a:r>
              <a:rPr b="0" lang="sr-RS" sz="2400" spc="-1" strike="noStrike">
                <a:solidFill>
                  <a:srgbClr val="00b0f0"/>
                </a:solidFill>
                <a:latin typeface="Arial"/>
              </a:rPr>
              <a:t>хипотермија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Боја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ко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лед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минал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не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рвавље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др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ар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не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конијална обоје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спирације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да ли плаче?</a:t>
            </a: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з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удног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а, аускул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Откуцаји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срца;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ип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пчаник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х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ускул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пплер технике, ЕКГ монитор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Тонус, рефлексна активност и стање свести;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800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оложај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ђим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аво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ње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ожају</a:t>
            </a:r>
            <a:br>
              <a:rPr sz="2400"/>
            </a:b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брисањ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тактилна стимулација, загревање: 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грејава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е више доказ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прилог хлађењ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ав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а: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33,5 С° до 34,5 С°) 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≥3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 Г.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 умереном до тешком ХИЕ</a:t>
            </a:r>
            <a:br>
              <a:rPr sz="2400"/>
            </a:b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ослобађање горњих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дисајних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утева: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                    -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АСПИРАЦ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дрел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с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214720" y="500040"/>
            <a:ext cx="55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А) Основна не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4857840" y="4572000"/>
            <a:ext cx="407196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лодов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конијална, густа, крв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те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ше или је депримирано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428760" y="4786200"/>
            <a:ext cx="392904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лодов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лодов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конијална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те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ше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ирно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) ВЕНТИЛ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785960"/>
            <a:ext cx="91440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ИКАЦИЈА: </a:t>
            </a:r>
            <a:r>
              <a:rPr b="0" lang="sr-CS" sz="2400" spc="-1" strike="noStrike">
                <a:solidFill>
                  <a:srgbClr val="0070c0"/>
                </a:solidFill>
                <a:latin typeface="Arial"/>
              </a:rPr>
              <a:t>Апнеа &gt;20-</a:t>
            </a:r>
            <a:r>
              <a:rPr b="0" lang="sl-SI" sz="2400" spc="-1" strike="noStrike">
                <a:solidFill>
                  <a:srgbClr val="0070c0"/>
                </a:solidFill>
                <a:latin typeface="Arial"/>
              </a:rPr>
              <a:t>30 </a:t>
            </a:r>
            <a:r>
              <a:rPr b="0" lang="sr-CS" sz="2400" spc="-1" strike="noStrike">
                <a:solidFill>
                  <a:srgbClr val="0070c0"/>
                </a:solidFill>
                <a:latin typeface="Arial"/>
              </a:rPr>
              <a:t>сек</a:t>
            </a:r>
            <a:r>
              <a:rPr b="0" lang="sl-SI" sz="24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0070c0"/>
                </a:solidFill>
                <a:latin typeface="Arial"/>
              </a:rPr>
              <a:t>, агонално дисање или брадикардија</a:t>
            </a:r>
            <a:r>
              <a:rPr b="0" lang="sl-SI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(Cp&lt;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итисак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алон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ршит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два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ст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у зависности од ГС)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ах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нтилирати 15-30 сек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бним ваздух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10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/мин. и присутна цијаноза, применити О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Концентрацију кисеоника подешавати у односу на регистровану предукталну СаО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жном тактилном стимулацијом даље подржати спонтане респир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Надувавање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желуца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спречити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гастричном сондом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l-SI" sz="26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) ВЕНТИЛАЦИЈА балон-маско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785880" y="221472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моширећи балон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нтило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3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laerdal"/>
          <p:cNvPicPr/>
          <p:nvPr/>
        </p:nvPicPr>
        <p:blipFill>
          <a:blip r:embed="rId1"/>
          <a:stretch/>
        </p:blipFill>
        <p:spPr>
          <a:xfrm>
            <a:off x="1500120" y="2786040"/>
            <a:ext cx="3857760" cy="3357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5857920" y="3143160"/>
            <a:ext cx="2786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реанимацији новорођеног детета, притиском два прста на балон избацује се 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15 ml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аздуха, а сваким додатним прстом још п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 m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азд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ГУЋЕ КОМПЛИКАЦ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2071800"/>
            <a:ext cx="90010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Техничке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греш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правилн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ставље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ш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ожај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ск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правила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ожај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ш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зиц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убус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неумотора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омали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арингс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хе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лућа</a:t>
            </a:r>
            <a:r>
              <a:rPr b="0" lang="sl-SI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афрагмал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рн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чан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осебна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стања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донешеност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шеструк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удно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правилност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бдоме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гастрошиза</a:t>
            </a:r>
            <a:r>
              <a:rPr b="0" lang="sl-SI" sz="2400" spc="-1" strike="noStrike">
                <a:solidFill>
                  <a:srgbClr val="00b0f0"/>
                </a:solidFill>
                <a:latin typeface="Arial"/>
              </a:rPr>
              <a:t>,</a:t>
            </a:r>
            <a:r>
              <a:rPr b="0" lang="sr-RS" sz="2400" spc="-1" strike="noStrike">
                <a:solidFill>
                  <a:srgbClr val="00b0f0"/>
                </a:solidFill>
                <a:latin typeface="Arial"/>
              </a:rPr>
              <a:t>омфалоцела, дијафрагмална хернија</a:t>
            </a: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-контраиндикована вентилација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Windows User</cp:lastModifiedBy>
  <dcterms:modified xsi:type="dcterms:W3CDTF">2020-09-11T14:02:46Z</dcterms:modified>
  <cp:revision>314</cp:revision>
  <dc:subject/>
  <dc:title>Slide 1</dc:title>
</cp:coreProperties>
</file>