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89856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395280" y="1214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РОЂАЈ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ВРЕ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ОВОРОЂЕН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755640" y="2090880"/>
            <a:ext cx="7817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чешћ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стај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матур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ефалопелвич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испропор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лонгиран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рођ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бнормал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зен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пертрофично новорођен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85840" y="1214280"/>
            <a:ext cx="87152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вред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меких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ткива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еритем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етехиј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екхимоз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лацерациј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вред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главе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Caput succedaneu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кефалхематом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арализ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фац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алис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фракту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костиј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лиц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вред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врата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рамена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фракту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кључн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кост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арализ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брахијално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лексус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вред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стерноклеидомастоидеус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вред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ичм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ичмен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мож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вред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нтраабдоминалних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ргана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рупту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слезин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јетр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хеморагиј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надбубрежни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жледам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вред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екстремитета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фрактур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хумерус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фему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луксациј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вред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генитал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RAKTURA FEMURA&#10;â¢ Javlja se u gornjoj polovini kosti&#10;&#10; "/>
          <p:cNvPicPr/>
          <p:nvPr/>
        </p:nvPicPr>
        <p:blipFill>
          <a:blip r:embed="rId1"/>
          <a:stretch/>
        </p:blipFill>
        <p:spPr>
          <a:xfrm>
            <a:off x="214200" y="1165320"/>
            <a:ext cx="5291280" cy="5692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214960" y="2143080"/>
            <a:ext cx="3786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Јавља 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средњој или горњој 1/3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етљивост на палпацију, “крепитације” или хемато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2-3 недеље пипа се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калу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ли дислоцирани фрагмен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  <a:ea typeface="Calibri"/>
              </a:rPr>
              <a:t>Имобилизациј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:рука уз тело 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угло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мо код </a:t>
            </a:r>
            <a:r>
              <a:rPr b="0" lang="sr-RS" sz="2400" spc="-1" strike="noStrike">
                <a:solidFill>
                  <a:srgbClr val="00b0f0"/>
                </a:solidFill>
                <a:latin typeface="Calibri"/>
                <a:ea typeface="Calibri"/>
              </a:rPr>
              <a:t>синдрома “болног рамен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000160" y="1285920"/>
            <a:ext cx="53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put Succedan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14200" y="2286000"/>
            <a:ext cx="5857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то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њачеће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е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ла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рођ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купљ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убкут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росангвиноз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флуид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ЗНАЦ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Флуи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ст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шаво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лоб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ВАН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ЕРОСТ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л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ви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утур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вај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злив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тумефак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чест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аће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етехија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екхимоз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ед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глав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ст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в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ан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с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рођа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есорб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id:image004.gif@01C318F2.65084960"/>
          <p:cNvPicPr/>
          <p:nvPr/>
        </p:nvPicPr>
        <p:blipFill>
          <a:blip r:embed="rId1"/>
          <a:stretch/>
        </p:blipFill>
        <p:spPr>
          <a:xfrm>
            <a:off x="6000840" y="4143240"/>
            <a:ext cx="29653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85840" y="13572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Narrow"/>
              </a:rPr>
              <a:t>Кефалхематом</a:t>
            </a:r>
            <a:r>
              <a:rPr b="1" lang="sr-Latn-CS" sz="32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ephalhaemathoma</a:t>
            </a:r>
            <a:r>
              <a:rPr b="1" lang="sr-Latn-CS" sz="3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57120" y="2286000"/>
            <a:ext cx="507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убпериост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лекциј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на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ла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т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уптур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рв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уда  // тз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sr-RS" sz="2400" spc="-1" strike="noStrike">
                <a:solidFill>
                  <a:srgbClr val="00b0f0"/>
                </a:solidFill>
                <a:latin typeface="Calibri"/>
                <a:ea typeface="Calibri"/>
              </a:rPr>
              <a:t>екстерни кефалхем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циденц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0.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2.5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живорође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л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виц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уту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бр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очљи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лукту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јчешћ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на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аријетал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мећ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2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3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sleep on pillow at 4wks.JPG"/>
          <p:cNvPicPr/>
          <p:nvPr/>
        </p:nvPicPr>
        <p:blipFill>
          <a:blip r:embed="rId1"/>
          <a:stretch/>
        </p:blipFill>
        <p:spPr>
          <a:xfrm>
            <a:off x="5500800" y="4000680"/>
            <a:ext cx="3456000" cy="27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t3.gstatic.com/images?q=tbn:ANd9GcTnC5EVE3ysdYCc1aB4SqwbS_7ccqcV4HyHhjUlo6CCbFmLbKuD"/>
          <p:cNvPicPr/>
          <p:nvPr/>
        </p:nvPicPr>
        <p:blipFill>
          <a:blip r:embed="rId2"/>
          <a:stretch/>
        </p:blipFill>
        <p:spPr>
          <a:xfrm>
            <a:off x="5715000" y="1857240"/>
            <a:ext cx="3429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00040" y="2000160"/>
            <a:ext cx="835812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улс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више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тис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л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тракранијална хемора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ипотенз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илируб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нинг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теомије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ракту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об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71640" y="121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ОМПЛИКАЦИЈ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87200" y="-601560"/>
            <a:ext cx="847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87200" y="-601560"/>
            <a:ext cx="847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newborns.stanford.edu/images/cephalohematoma1.jpg"/>
          <p:cNvPicPr/>
          <p:nvPr/>
        </p:nvPicPr>
        <p:blipFill>
          <a:blip r:embed="rId1"/>
          <a:stretch/>
        </p:blipFill>
        <p:spPr>
          <a:xfrm>
            <a:off x="5357880" y="3071880"/>
            <a:ext cx="39290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42960" y="714240"/>
            <a:ext cx="817704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вла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3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ож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лцифицир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1 %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лучај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серв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компликова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лучај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итамин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рансфус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ототерап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ункц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ј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звољена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li non tanger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ure 1: Right facial nerve palsy of the newborn. Note the baby is not able to close the eyelid while crying"/>
          <p:cNvPicPr/>
          <p:nvPr/>
        </p:nvPicPr>
        <p:blipFill>
          <a:blip r:embed="rId1"/>
          <a:stretch/>
        </p:blipFill>
        <p:spPr>
          <a:xfrm>
            <a:off x="214200" y="2643120"/>
            <a:ext cx="4643640" cy="42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073600" y="1285920"/>
            <a:ext cx="30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aresis n. fati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072040" y="3071880"/>
            <a:ext cx="36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ечје” 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рокодилске” су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симетричност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ушење корне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тежано сис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69960" y="247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241960" y="239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50920" y="14288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aresis/paralisis pl. brachi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85840" y="2428920"/>
            <a:ext cx="557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1.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b Duchenn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-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в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аум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5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6)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- У 60% случаје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 Ру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дуков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нутрашњо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таци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нацији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2.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лумпк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-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в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аум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С8 и 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-У 2-10% случај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арали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лексо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уч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ст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флек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ватањ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г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атив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огућ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Calibri"/>
              </a:rPr>
              <a:t>Horner</a:t>
            </a:r>
            <a:r>
              <a:rPr b="0" lang="sr-RS" sz="2400" spc="-1" strike="noStrike">
                <a:solidFill>
                  <a:srgbClr val="00b0f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b0f0"/>
                </a:solidFill>
                <a:latin typeface="Calibri"/>
                <a:ea typeface="Calibri"/>
              </a:rPr>
              <a:t>ов</a:t>
            </a:r>
            <a:r>
              <a:rPr b="0" lang="sr-Latn-CS" sz="24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т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3.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омплетн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захваћен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горњ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доњ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гран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аум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5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)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30% случај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08000" y="184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659640" y="1484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id:image001.gif@01C318F2.65084960"/>
          <p:cNvPicPr/>
          <p:nvPr/>
        </p:nvPicPr>
        <p:blipFill>
          <a:blip r:embed="rId1"/>
          <a:stretch/>
        </p:blipFill>
        <p:spPr>
          <a:xfrm>
            <a:off x="5357880" y="1285920"/>
            <a:ext cx="3000240" cy="264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id:image002.gif@01C318F2.65084960"/>
          <p:cNvPicPr/>
          <p:nvPr/>
        </p:nvPicPr>
        <p:blipFill>
          <a:blip r:embed="rId2"/>
          <a:stretch/>
        </p:blipFill>
        <p:spPr>
          <a:xfrm>
            <a:off x="6215040" y="3976560"/>
            <a:ext cx="2643120" cy="2881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5357880" y="33577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5932440" y="6072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Windows User</cp:lastModifiedBy>
  <dcterms:modified xsi:type="dcterms:W3CDTF">2020-09-11T19:21:42Z</dcterms:modified>
  <cp:revision>35</cp:revision>
  <dc:subject/>
  <dc:title>Slide 1</dc:title>
</cp:coreProperties>
</file>