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644F-68FD-4018-B6F9-CED2307B5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94B1-21BB-4197-A875-B2002D33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584-A6D4-4AD5-A5AC-63A208E7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B2A-7152-4E42-92E2-AB606807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FFE-2940-40C4-8FCE-03CF0DFF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D16-828E-488E-844C-CEE3ED6C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516-CEEB-487E-BF74-341A0613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993-39B9-44AE-94D3-C357AA35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4F7-5049-4F71-A921-5DA007C1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31F-C460-4427-9240-3EBE5B96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C8E-2CB1-4825-97D2-8D6DB598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55A-D485-4150-897D-D38B5AC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862-C179-4AF6-97FD-10B0C2F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028-E91A-49E0-B612-16BCBF4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7679-C369-48EC-AEDD-92CD2AEDD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38520" y="2785680"/>
            <a:ext cx="7472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 Light"/>
              </a:rPr>
              <a:t>Карактеристике новорођенчади рођене пре или после термина и са малом телесном масом за гестациону старост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 Light"/>
              </a:rPr>
              <a:t>                          проф. 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д</a:t>
            </a:r>
            <a:r>
              <a:rPr b="0" lang="sr-CS" sz="4000" spc="-1" strike="noStrike">
                <a:solidFill>
                  <a:srgbClr val="000000"/>
                </a:solidFill>
                <a:latin typeface="Calibri Light"/>
              </a:rPr>
              <a:t>р А.Симовић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78588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ИЗГЛЕД</a:t>
            </a:r>
            <a:r>
              <a:rPr b="1" lang="hr-HR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НЕДОНОШЧЕТ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3880" y="1999800"/>
            <a:ext cx="7072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ру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МТ слаб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виј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знат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понт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то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асић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лаб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лач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пушт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руд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ш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з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ан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лану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лач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зи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дем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рзу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оп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ш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кољ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делир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к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ениталије инфантил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166840" y="2357280"/>
            <a:ext cx="5791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viber_image_2020-05-04_19-47-33.jpg"/>
          <p:cNvPicPr/>
          <p:nvPr/>
        </p:nvPicPr>
        <p:blipFill>
          <a:blip r:embed="rId1"/>
          <a:stretch/>
        </p:blipFill>
        <p:spPr>
          <a:xfrm>
            <a:off x="6953400" y="2071800"/>
            <a:ext cx="3190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ПРОЦЕНА</a:t>
            </a:r>
            <a:r>
              <a:rPr b="1" lang="sr-Latn-C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ГЕСТАЦИЈ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СТАРОСТ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81080" y="2285640"/>
            <a:ext cx="8258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НАТАЛНА ПРОЦ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ређив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м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ту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нстру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ушерс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мура, висина фундуса матер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иво естриола у крви или урину мај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рфактан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мнионск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Е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бољ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азатељ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стацијс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71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ПОСТНАТАЛНО: Морфолошка процена ГС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84320" y="1700280"/>
            <a:ext cx="839016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rcRect l="7468" t="37200" r="18136" b="39600"/>
          <a:stretch/>
        </p:blipFill>
        <p:spPr>
          <a:xfrm>
            <a:off x="2279520" y="1052640"/>
            <a:ext cx="7345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ФУНКЦИОНАЛНЕ</a:t>
            </a:r>
            <a:r>
              <a:rPr b="1" lang="hr-HR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КАРАКТЕРИСТИК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2142720"/>
            <a:ext cx="8786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езрела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на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егулација</a:t>
            </a:r>
            <a:r>
              <a:rPr b="1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исањ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”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заборав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иш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ДС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јављ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3/4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Н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&lt;32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.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чест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лућ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еморагиј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остасфиктичн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индром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 пнеумоторак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ИСХРА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ослабљен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исањ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гутањ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ашљ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ТЕРМОРЕГУЛАЦИЈ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ЛОШ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велик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односу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ТМ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волем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МАЛ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ЕЗЕРВЕ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клоност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а хипоглик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калц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натр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ацидоз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и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опротеин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перазотемиј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СКЛОНОСТ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КА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ИНФЕКЦ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ХИК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патолошкој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жутиц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ахитису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анемији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ДАП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НЕК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РОП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256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 Light"/>
              </a:rPr>
              <a:t>НЕГ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4760" y="2017440"/>
            <a:ext cx="830556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себ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де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нкубатори (дозирање и надзор О2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рофилакса и рани скрин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треб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од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завис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од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Г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ФОТО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терапиј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склоност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а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нфекциј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СХРА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нтерал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 (130-200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л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г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лек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дан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арентер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ећ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отребе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протеини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(2-4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гр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г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/24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сенцијалним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амино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асним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киселина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минералима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hr-H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витамин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7772400" y="6095880"/>
            <a:ext cx="1523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7924680" y="6248520"/>
            <a:ext cx="15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6934320" y="4038480"/>
            <a:ext cx="3733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viber_image_2020-05-04_19-48-08.jpg"/>
          <p:cNvPicPr/>
          <p:nvPr/>
        </p:nvPicPr>
        <p:blipFill>
          <a:blip r:embed="rId1"/>
          <a:srcRect l="0" t="18602" r="0" b="18002"/>
          <a:stretch/>
        </p:blipFill>
        <p:spPr>
          <a:xfrm>
            <a:off x="7667640" y="642960"/>
            <a:ext cx="2857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НЕГА ДЕТЕТА У ИЗОЛЕ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кубат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ле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еб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штити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акрс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грож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ођ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33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естацијке недељ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лож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т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рофич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њ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0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Slika0349"/>
          <p:cNvPicPr/>
          <p:nvPr/>
        </p:nvPicPr>
        <p:blipFill>
          <a:blip r:embed="rId1"/>
          <a:stretch/>
        </p:blipFill>
        <p:spPr>
          <a:xfrm>
            <a:off x="7407360" y="4775040"/>
            <a:ext cx="45482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120" y="1000080"/>
            <a:ext cx="8558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доношче је новорођ. рођено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наврше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37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.н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36+6/7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259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чунајућ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ц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сталост превременог рађања у свету износи око 10%, док је у Србији она нешто мања (6,8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ма порођајној тежини се деле н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00 грама;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м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500-25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Према ГС недоношчад се деле на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зрел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extremely prete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 6/7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зрел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very prete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до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1 6/7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ерен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зрел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moderately preter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навршен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до 33 6/7. г.н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дтерминско новорођенче 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енг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 late preter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д навршен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е до навршене 36. г.н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Узроци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временог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орођа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могућност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рж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од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так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мак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ж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ртилност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бачај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ртворође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ремен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лубљивањ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ељ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ремен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познат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&gt;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7138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Узроци ИУЗ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80720" y="20714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ФЕТАЛН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мањен генетск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енцијал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мозомск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омал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гениталн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формац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ода (симетричан ИУЗ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ЛАЦЕНТАЛНИ</a:t>
            </a:r>
            <a:r>
              <a:rPr b="0" lang="hr-HR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суфицијенциј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цент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брупциј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цент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ви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або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вијен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аркт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асиметричан ИУЗ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МАТЕРНАЛНИ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- &lt;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,&gt;3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ултипл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есто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храњеност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шење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кохолиз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98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НТРАУТЕРИНИ ЗАСТОЈ РАСТ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3520" y="1928520"/>
            <a:ext cx="90010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ЕФИНИЦИЈ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Хипотрофич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оворођен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ДОСТАЧ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“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ч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1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арите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рођа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ај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ИМЕТРИЧ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УЗ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ст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&lt;34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ли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едоношчет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ма теш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е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ту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ступа интарутер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мр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азива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иолош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етал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фактори 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р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утер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лацент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2480" indent="-514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4080" y="4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СИМЕТРИЧАН, ПРОПОРЦИОНАЛАН, РАНИ ИЛИ УНУТРАШЊИ (“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INTRISINC</a:t>
            </a:r>
            <a:r>
              <a:rPr b="1" lang="sr-CS" sz="2800" spc="-1" strike="noStrike">
                <a:solidFill>
                  <a:srgbClr val="000000"/>
                </a:solidFill>
                <a:latin typeface="Calibri Light"/>
              </a:rPr>
              <a:t>”) ИУЗР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5120" y="2357280"/>
            <a:ext cx="1117296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знатљи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иметричног, откр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ређе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ође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иње рано, пре 24.г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јчешће н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а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ролошке незрел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виј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веолар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гова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раутерин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тњ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зрев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ка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ођ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4840" y="-133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АСИМЕТРИЧАН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или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КАСНИ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ИУЗР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3080" y="1452600"/>
            <a:ext cx="91440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ста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&gt;3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зазив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пољашњ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тернал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актор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ас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тер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лацент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суфициј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рша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латив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ли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иц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оуглас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удр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ар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лано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ба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разда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рве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церира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бор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бдом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гле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уч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крив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рникс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ш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кољ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штр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в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ж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скавиц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уг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ст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ан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јач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мороз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здражљив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с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ч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 Light"/>
              </a:rPr>
              <a:t>ДИСМАТУРНИ</a:t>
            </a:r>
            <a:r>
              <a:rPr b="1" lang="sr-Latn-CS" sz="4400" spc="-1" strike="noStrike" u="sng">
                <a:solidFill>
                  <a:srgbClr val="000000"/>
                </a:solidFill>
                <a:uFillTx/>
                <a:latin typeface="Calibri Light"/>
              </a:rPr>
              <a:t> </a:t>
            </a: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 Light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88100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енешено новорођенч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&gt;42г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ледоси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ув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љуш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нов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бан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ок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угачк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тањ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к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боје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еле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ђ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ушт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орођенач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лиц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0T12:15:46Z</dcterms:created>
  <dc:creator>User</dc:creator>
  <dc:description/>
  <dc:language>en-US</dc:language>
  <cp:lastModifiedBy>User</cp:lastModifiedBy>
  <dcterms:modified xsi:type="dcterms:W3CDTF">2020-09-30T17:10:08Z</dcterms:modified>
  <cp:revision>11</cp:revision>
  <dc:subject/>
  <dc:title>Карактеристике новорођенчади рођене пре или после термина и са малом телесном масом за гестациону старост                             проф. др А.Симовић</dc:title>
</cp:coreProperties>
</file>