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B0D2-61B1-4A36-96C6-BB1FCDB3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3732-3B96-43D0-B27B-AEDFCAAB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E06B-210F-437C-96B6-020CCD8B3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AA16-57E2-4217-BD8C-E6B975A16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ACAC-FA83-4CC6-965A-BDD81BF4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5A09-3422-4D46-81BB-B3F2EEA7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6B87-D332-4B35-A719-2E1ECC36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2858-2E92-4418-A378-BB85E8A5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152B-8C9A-4BD3-AEED-BD81F135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B89E-C2AB-4A46-856A-3084787A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8A53-B086-4965-9B0F-43315ACF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D088-40CC-48F9-8A0C-7BC09030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E8E9-73D5-4E80-8350-D0C843CCEA7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28480"/>
            <a:ext cx="7415280" cy="14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НЕОНАТАЛНА ХИПЕРБИЛИРУБИНЕМ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3928680"/>
            <a:ext cx="7272360" cy="17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25-50% терминске и 80-87% претерминске деце развија видљиву жутиц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роф. др Александра Симови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8" descr="http://www.volonterskicentarkg.org/wp-content/uploads/2011/02/MEDFKG-181x3002.jpg"/>
          <p:cNvPicPr/>
          <p:nvPr/>
        </p:nvPicPr>
        <p:blipFill>
          <a:blip r:embed="rId1"/>
          <a:stretch/>
        </p:blipFill>
        <p:spPr>
          <a:xfrm>
            <a:off x="4191120" y="457200"/>
            <a:ext cx="1081080" cy="97308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5000760" y="714240"/>
            <a:ext cx="2357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THE MEDICAL FACUL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UNIVERSITY OF KRAGUJE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2571840" y="714240"/>
            <a:ext cx="1857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MEDICINSKI FAKULT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UNIVERZITET U KRAGUJEVC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691920"/>
            <a:ext cx="8229600" cy="58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овећана ентерохепатична циркулација билирубин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успорена пасажа црев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(опструкција црева, меконијални илеус, паралитички илеус, хипотиреоза, ресорпција прогутане крви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Остали узроц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сепс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интраутерина инфекц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R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Асфиксиј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дете дијабетичне мајк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ДИЈАГНОЗ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ндиректни и директни билируб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рвна слика, број ретикулоцита и морфологија 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рвна група 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Rh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фактор детета и мај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иректн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Coombs-ov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nti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D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h)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нтитела у крви мај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бактериолошка обрадa (хемокултурa, уринокултур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ТЕРАП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Фототерапија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(максимум апсорпције код та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не дужине светла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450-460nm;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</a:rPr>
              <a:t>контраиндикована код коњуговане хипербилирубинемије!!!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Албумини</a:t>
            </a:r>
            <a:r>
              <a:rPr b="0" lang="sr-CS" sz="3200" spc="-1" strike="noStrike">
                <a:solidFill>
                  <a:srgbClr val="ffff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(побољшавају транспорт билирубина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Лекови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Фенобарбитон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 (повећава коњугацију и екскрецију билруби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муноглобулини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(250-800mg/kg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2-3 данa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E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ксангвинотрансфуз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ФИЗИОЛОШКА ЖУТ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125360"/>
            <a:ext cx="85075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ДЕФИНИЦИЈ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икада се не јавља у прва 2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 (&lt;36h)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жив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огресиван раст некоњугованог билирубина од 30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ol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у пупчанику до мах. 220,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(205-256)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ol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3.-4. ог дана живо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линички се губи у првој, а лабораторијски у другој недељи живо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онцентрација коњугованог билирубина никада не прелази 15% укупног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е захтева терапиј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Код донешеног новорођенче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857240"/>
            <a:ext cx="790092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коњугoвани билирубин: мах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. 100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-166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  <a:ea typeface="Arial"/>
              </a:rPr>
              <a:t>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mol/l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од 48.-72. сата живo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клинички се жутица не уочава после прве недеље жив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до краја друге недељe нормализују сe врeдности билирубин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(35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  <a:ea typeface="Arial"/>
              </a:rPr>
              <a:t>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mol/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39640" y="836280"/>
            <a:ext cx="81043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коњуговани билурубин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х. 170-205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  <a:ea typeface="Arial"/>
              </a:rPr>
              <a:t>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mol/l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змеђ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4. и 5. дана жив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клинички се жутица не уочава после друге недеље жив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до краја 4. недеље нормализују сe врeдности билирубин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357120" y="765000"/>
            <a:ext cx="759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Код недонешеног новорођенче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155520" y="-509760"/>
            <a:ext cx="14479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155520" y="-509760"/>
            <a:ext cx="14479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5"/>
          <p:cNvSpPr/>
          <p:nvPr/>
        </p:nvSpPr>
        <p:spPr>
          <a:xfrm>
            <a:off x="155520" y="-547560"/>
            <a:ext cx="152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7"/>
          <p:cNvSpPr/>
          <p:nvPr/>
        </p:nvSpPr>
        <p:spPr>
          <a:xfrm>
            <a:off x="155520" y="-547560"/>
            <a:ext cx="152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ТИОЛОГИЈА ФИЗИОЛОШКЕ ЖУТИ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овећан прилив билирубина у јетру (краћи живот Ер, повећана укупна маса Ер, повишен билирубин нехемоглобинског порекла, велика ентерохепатична циркулација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мањен улазак билирубина у хепатоцит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мањена коњугација билирубина (дефицит ензима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мањена оксигенација јетре после подвезивања пупчани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ПАТОЛОШКА ЖУТИЦ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125360"/>
            <a:ext cx="850752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ФИНИ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јава жутице у прва 2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живота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(ICTERUS PRAECOX)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д здраве 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орођ. конц. индиректног билирубина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≥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205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Arial"/>
              </a:rPr>
              <a:t>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mol/l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ерзистира дуже од 7 да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од претерминске новорођ. конц.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директног билирубина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≥ 255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Arial"/>
              </a:rPr>
              <a:t>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mol/l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линички видљива и после 14 да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(ICTERUS PROLONGATUS)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ораст конц. билирубина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≥8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3,3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Arial"/>
              </a:rPr>
              <a:t>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mol/l/24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жутица болесног нов., ако је билирубинемија &gt;220,5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Arial"/>
              </a:rPr>
              <a:t> 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mol/l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(ICTERUS GRAVIS)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Директна хипербилирубинемиј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НЕКОЊУГОВАНА ХИПЕРБИЛИРУБИНЕМ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360" y="1600200"/>
            <a:ext cx="89298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ЕТИОЛОГИЈА: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ећан прилив билирубина у хепатоците услед повећаног стварања булирубин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емолизна болест новорођенче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нфекциј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емолизне анемиј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ећана број Ер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емолиза узрокована применом леко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(витамин К, сулфонамиди, окситоцин, пеницилин, антималариц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НЕКОЊУГОВАНА ХИПЕРБИЛИРУБИНЕМ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ТИОЛОГИЈА: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Поремећај транспорта билируб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цидо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ипокс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ипоалбуминем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кови (аспирин, диазепам, сулфонамид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НЕКОЊУГОВАНА ХИПЕРБИЛИРУБИНЕМ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ТИОЛОГИЈА: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Смањена коњугација билирубина у јетр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следни дефицит ензима глукуронил-трансферазе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(Sy Crigler-Najjar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ип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, II, Sy Gilber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ипотирео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ипогликем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дужена жутица на природној исхра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лазна фамилијaрнa жутицa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(Lucey-Driscol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0T07:22:30Z</dcterms:created>
  <dc:creator>Info</dc:creator>
  <dc:description/>
  <dc:language>en-US</dc:language>
  <cp:lastModifiedBy>User</cp:lastModifiedBy>
  <dcterms:modified xsi:type="dcterms:W3CDTF">2020-09-30T17:07:21Z</dcterms:modified>
  <cp:revision>127</cp:revision>
  <dc:subject/>
  <dc:title>NEONATALNA HIPERBILIRUBINEMIJA</dc:title>
</cp:coreProperties>
</file>