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D12-80B9-4E56-82BF-ED591F8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F53-597C-4637-9D8A-2C109D40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ED0-D174-494D-8C62-3C0B2EAA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BE0-70D6-4C32-A94C-0D48DBA7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7B2-DE6B-4691-AAD8-42FD1989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E40-6E0C-4ABB-8F6B-2B02246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B5C-C60C-483E-AD42-AF25603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15A-7599-4C16-B881-4210D8B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F02-ADA9-40AD-88EF-784EFCD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9C3-D760-4CB1-9C9F-056FC2C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A63-0EBD-4F48-8D17-518EB84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BD1-5649-4943-8C75-CB2BE7C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15AD-23B4-43D8-8A3F-5999F0B8D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 новорођен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 О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2600" y="685800"/>
            <a:ext cx="356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ЕДИЦИНСКИХ НАУ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5527800" y="679320"/>
            <a:ext cx="290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Y OF MED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ана Са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(неинфективна) НН морају бити одвојена од болесних- кадровски и простор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а ван болнице хоспитализују се минимум 7 дана у изо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а инфекцијом (сумња/потврђена) мора се изолов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НН у ОИН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се у купа под млазом воде, не у кад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ласка сваком новорођенчету, лекар и сестра стављају маске и перу ру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е отварају лак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 препору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дној соби највише 12 Н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сестра максимално може неговати 12 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Y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женско 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2:3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ље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.yy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.године у 07:55 ч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: 7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ћено из регионалног породилишта у пратњи педијатра и мед.сес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хоспитализације: респираторно погорш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 дете из неконтролисане трудноћ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, POG=27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гар скор 4/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39 недељ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 завршен природним пу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 зел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и овојци прокинути непосредно пред порођа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а анамне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контролисана трудноћ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удноће мајка је била здрава. Прва трудноћа завршена пре 11 месец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мајке ``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D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позитивн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везаних за наслеђ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шња болес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рофично, слабије плаче, глава издужена, намрштен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мрко- ружичаста, смежурана, акре ливид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 снижен, рефлекси се не изазивају, потом назна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е напорније, са нискотонским визин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д срцем уре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- у бо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о у изол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р за кисеоник са 3, а затим и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/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атурације кисеоником и срчане рад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казују на ацид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окликемиј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 ружичасто, присутне спонтане моторике, развија тахипнеу, Р=80/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и.в.рехидрација, иницијална А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mecil, Amicacin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тамин К. Вакцине није прими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јему 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и обрађ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олети, са додатним О2- ш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: АБ (исти), а од 2-ог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ne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 при пријему: ацид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гликем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ЦНСа- Изражене хиперехогености. Коморе у физиолошким грани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срц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 u fossi oval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плућа: Указује на пнеумонију при пријему ...Контролни налаз уред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узраста НН, нега се спроводи на више н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посрено збрињавање- нега у породил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га на одељењу ОИ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га здравог НН у кућним ус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љем току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 анализе: у границама рефернтних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на гликемија 5,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е вредности билирубина –Фото терапија 4 с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=109g/l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С депл.Е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УЗР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за 39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ско НН предвиђај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2800g, p50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95: 3947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Д 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5: 48cm, p50:50cm, p95: 53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=12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, PTD=41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 рођено у термину са ИУЗ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 у породилишту- основном збриња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регле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Н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ецање пупча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: 5- 10 минута од рођ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: кад престану пупчане пул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штипаљком,стерилном трачицом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у строго асептичним услов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 патрља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уши се за 3- 4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 за 1 недељу и оставља ра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сте за 2 неде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 друго: крварење, влажење, ...- захтева леч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другог прегледа до отпуста из породилишта (2-3 дана)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а обрада пупка антисепт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ње и нега кож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нинг тестови: Гатријев тест, УЗ ЦНСа, скрининг слуха, скрининг на Р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у очи- превенција гонороичне инфек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пусту НН...лекар израђује отпусну листу која садрж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и презиме мајке НН и по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нарукв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ум и тачно време рођења (значајно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М/ОГ/ОГ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трудноћ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мај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трудноће (порођаја) по ре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ча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везани за наслеђ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сани резултати скрининг тесто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и остали физикални прегл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8:58:42Z</dcterms:created>
  <dc:creator>Miki</dc:creator>
  <dc:description/>
  <dc:language>en-US</dc:language>
  <cp:lastModifiedBy>Miki</cp:lastModifiedBy>
  <dcterms:modified xsi:type="dcterms:W3CDTF">2020-09-29T15:59:33Z</dcterms:modified>
  <cp:revision>51</cp:revision>
  <dc:subject/>
  <dc:title>PowerPoint Presentation</dc:title>
</cp:coreProperties>
</file>